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049A-19F0-46E3-9391-730FF84F1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9CF-A3A2-463D-AE43-3DF9494B7B3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67A0-76EA-42D0-B376-00F071667E6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A57B-78AF-4E29-B367-0FEF0B94776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3049-E52B-4B84-BBFB-E3DBF76AA0A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588B-F663-4E5C-86A6-F1459B1323D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90A5-FF60-4C2F-8721-2E539B79B8A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8A8-21B6-48C1-99E1-94BBCCA0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9DB-B31A-459C-ADB9-3C4331E4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A9A-7F71-4351-9A6B-54A969FB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971-1789-41A7-A337-0430510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8EA-5439-4F4B-A0AC-9C45B3E4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232-F878-4E3A-9AFB-1ACCBA84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EC3-EB85-49EB-9765-B75001C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E19-A9EB-40BE-B0E9-82CCB5D7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1D0-693E-4549-B89A-CE8C7EC8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687-7CDE-4EAF-B314-53BF4A0B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890-D9E0-42AE-BDFF-45350B74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D00F-8274-4DA2-A2D4-476394E1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DBED-CC1F-4155-893A-EE8418F1327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755640" y="68904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jeth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539640" y="2349360"/>
            <a:ext cx="2662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Bëj një skemë “merimangë” për të treguar atë që di për fotosintez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Content Placeholder 65558"/>
          <p:cNvGrpSpPr/>
          <p:nvPr/>
        </p:nvGrpSpPr>
        <p:grpSpPr>
          <a:xfrm>
            <a:off x="3746520" y="1469880"/>
            <a:ext cx="4587480" cy="4838400"/>
            <a:chOff x="3746520" y="1469880"/>
            <a:chExt cx="4587480" cy="4838400"/>
          </a:xfrm>
        </p:grpSpPr>
        <p:sp>
          <p:nvSpPr>
            <p:cNvPr id="52" name="_s1028"/>
            <p:cNvSpPr/>
            <p:nvPr/>
          </p:nvSpPr>
          <p:spPr>
            <a:xfrm flipH="1" flipV="1">
              <a:off x="4932720" y="3283920"/>
              <a:ext cx="5554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_s1029"/>
            <p:cNvSpPr/>
            <p:nvPr/>
          </p:nvSpPr>
          <p:spPr>
            <a:xfrm>
              <a:off x="3746520" y="2378160"/>
              <a:ext cx="1274760" cy="121032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30"/>
            <p:cNvSpPr/>
            <p:nvPr/>
          </p:nvSpPr>
          <p:spPr>
            <a:xfrm flipH="1">
              <a:off x="4934880" y="4191120"/>
              <a:ext cx="55584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_s1031"/>
            <p:cNvSpPr/>
            <p:nvPr/>
          </p:nvSpPr>
          <p:spPr>
            <a:xfrm>
              <a:off x="3747960" y="4192920"/>
              <a:ext cx="1274760" cy="120996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1032"/>
            <p:cNvSpPr/>
            <p:nvPr/>
          </p:nvSpPr>
          <p:spPr>
            <a:xfrm flipH="1">
              <a:off x="6041160" y="4595400"/>
              <a:ext cx="144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_s1033"/>
            <p:cNvSpPr/>
            <p:nvPr/>
          </p:nvSpPr>
          <p:spPr>
            <a:xfrm>
              <a:off x="5404680" y="5098320"/>
              <a:ext cx="1274760" cy="120996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_s1034"/>
            <p:cNvSpPr/>
            <p:nvPr/>
          </p:nvSpPr>
          <p:spPr>
            <a:xfrm>
              <a:off x="6867360" y="4192920"/>
              <a:ext cx="277560" cy="29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7059240" y="4191120"/>
              <a:ext cx="1274760" cy="120996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_s1036"/>
            <p:cNvSpPr/>
            <p:nvPr/>
          </p:nvSpPr>
          <p:spPr>
            <a:xfrm flipV="1">
              <a:off x="6679800" y="3282120"/>
              <a:ext cx="4636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1037"/>
            <p:cNvSpPr/>
            <p:nvPr/>
          </p:nvSpPr>
          <p:spPr>
            <a:xfrm>
              <a:off x="7059240" y="2376720"/>
              <a:ext cx="1274760" cy="120996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_s1038"/>
            <p:cNvSpPr/>
            <p:nvPr/>
          </p:nvSpPr>
          <p:spPr>
            <a:xfrm flipV="1">
              <a:off x="6039000" y="2677680"/>
              <a:ext cx="0" cy="60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5402520" y="1469880"/>
              <a:ext cx="1274760" cy="120996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5402520" y="3301920"/>
              <a:ext cx="1464840" cy="1293480"/>
            </a:xfrm>
            <a:prstGeom prst="ellipse">
              <a:avLst/>
            </a:prstGeom>
            <a:solidFill>
              <a:srgbClr val="028cd0">
                <a:alpha val="15000"/>
              </a:srgbClr>
            </a:solidFill>
            <a:ln w="5724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tosintez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Box 1"/>
          <p:cNvSpPr/>
          <p:nvPr/>
        </p:nvSpPr>
        <p:spPr>
          <a:xfrm>
            <a:off x="5558400" y="115920"/>
            <a:ext cx="34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Arial"/>
              </a:rPr>
              <a:t>1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jëzat dhe lëvizja e gaz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1"/>
          <p:cNvSpPr/>
          <p:nvPr/>
        </p:nvSpPr>
        <p:spPr>
          <a:xfrm>
            <a:off x="1403280" y="6922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Gjet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952880" y="2133720"/>
            <a:ext cx="3579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Gjethet prodhoj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ë 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ushqim për bimën. Procesi quhet fotosintez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47840" y="4941720"/>
            <a:ext cx="82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ër të kryer fotosintezën bimët kanë nevojë për dritë, ujë dhe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oksid karboni. Oksigjeni është mbetje e fotosintez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826920" y="149076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403280" y="6922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Të punuarit mir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68360" y="2060640"/>
            <a:ext cx="4195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Bimët i mbajnë gjethet e tyre në kënd të drejtë kundrejt dritës së diellit për të kapur sa më shumë dritë që të jetë e mund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Në vende me hije gjethet rriten më shum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C:\Users\Sarah\Dropbox\work\CIE Science Teachers CD\05. Artwork\Stage 9\Sourced\camb_tcd_l9_bio_ch01_PPT2_2.jpg"/>
          <p:cNvPicPr/>
          <p:nvPr/>
        </p:nvPicPr>
        <p:blipFill>
          <a:blip r:embed="rId1"/>
          <a:srcRect l="0" t="0" r="0" b="11119"/>
          <a:stretch/>
        </p:blipFill>
        <p:spPr>
          <a:xfrm>
            <a:off x="5148360" y="1847880"/>
            <a:ext cx="3389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76360" y="692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Struktura e gjeth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466560" y="4708440"/>
            <a:ext cx="81536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Kutikula është dyllore për të ndalur tharjen e gjeth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Qelizat gardhore përmbajnë kloroplaste të gjelbra ku kryhet fotosinteza.</a:t>
            </a:r>
            <a:br>
              <a:rPr sz="2800"/>
            </a:b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1508040" y="1457280"/>
            <a:ext cx="599436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763640" y="620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Duke parë gjet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47840" y="1566720"/>
            <a:ext cx="784836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ërdor një mikroskop për të shqyrtuar prerjen e një gjethe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A mund të identifikos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htres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palisadik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622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htresën gardh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622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epidermë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6224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gojëzë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49280" y="5070600"/>
            <a:ext cx="797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Vizato dhe etiketo një skemë të prerjes tërthore të gje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763640" y="620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Fotosinte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38120" y="170640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kico një skemë me kutia për të treguar se çfarë ndodh gjatë fotosintez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Ti mund të dëshirosh ta fillosh 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6400" indent="-619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Rrezet e diellit që bien në gjethe 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3:09:26Z</dcterms:created>
  <dc:creator/>
  <dc:description/>
  <dc:language>en-US</dc:language>
  <cp:lastModifiedBy/>
  <dcterms:modified xsi:type="dcterms:W3CDTF">2018-03-24T11:42:30Z</dcterms:modified>
  <cp:revision>1</cp:revision>
  <dc:subject/>
  <dc:title/>
</cp:coreProperties>
</file>