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31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32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33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75D4-755C-4A7C-8035-6F6666AAB2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F45D-2AAD-4FAE-BB61-163D2F09AE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151E-A038-4FEF-92C3-A006303993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6314-863B-408E-9C05-8B8FAEF703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4CBB-7873-415E-B4AE-1CE72AB550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3268-F4B9-4B9D-A4D5-0A8F44C5C3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9174-D140-4380-B843-ED3F4243BE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F242-616D-4D50-B5D6-984F05E4FE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2DEC9-8C1E-440A-9531-35BCDD20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C265A-98A8-4028-B715-6E70919E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DBC98-8013-4258-BC9D-42B10102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39CDB-3F9D-401D-B658-ED66E51B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9291E-A40B-4FD9-BF85-EFE0FFB0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2C3A0-D8FF-414D-BA05-0B9E812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C3B46-BD76-42EF-B138-73385CF7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8CB54-7D36-4A70-9629-09DE948D4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BFD15-FC38-4BCF-91DA-60106939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981DC-1F00-4447-AFF3-6465E8C9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5A841-8B4C-4208-9147-E0C7A60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60EDE-1CD1-4DB9-A8F8-210E55BB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9BE0B-1757-432B-AB66-59C9697E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20E19-5DA3-4FBB-97B3-04BE064B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5965-2E06-4A00-816A-C87AD80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BAA1C-1FB9-4D20-B107-ABDBF2B6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6755C-3E99-4736-A344-7B5ADA18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54AD4-9D3B-460E-80EA-A0F866FD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C2AF-D9A7-436C-890E-2C70E003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4A0A9-0904-49D4-BF5E-FD5FE70C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713DA-A148-47FF-B285-6D426B08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479B-8B87-436A-84B3-68C7CE31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CA48B-F0C3-441B-ADAB-59FB45C4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6CF5F-146B-43E2-BE4B-E04E964C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5CFE4-1096-44E5-893B-FC4B5BD5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F7D82-7548-4320-8F30-EDA59A5B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95928-FC39-4D69-8532-4D1B7251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930B6-DD78-454D-9EDB-401CCEF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280BA-4957-44DA-84FD-51C0E871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B803A-0CD5-440B-9F91-86408C1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2C5-C505-4B23-A43E-90D5D7FA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53179-B0B0-45C3-B8AB-8CD8B606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97697-ECD0-49C1-82BF-332A4A6E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DA188-47E1-42EB-9365-523DC481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67AE-3B88-470B-A914-1D180AED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36EC-21BA-412A-8930-F1A7F2F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66E-6573-422C-A1E4-146A84EC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EEA-BBED-4922-BA96-159ACC58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0B6-6E27-41FB-ADCA-B889E8E3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F48-65E2-42EC-8521-00A91BD4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0EB-CAD8-4BB4-90F8-6985DBE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D1D-3445-49DF-9B61-78BD43BD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205-FB6C-413A-9403-03EDA704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A4C-5112-4A13-BD31-8A698F48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728-06B6-4940-805C-BC124729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E23D-4864-43EE-BBD2-DFD06B78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D6A5-26AA-4346-A6D0-0921BD15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04E65-9094-43AB-8F4C-60BB498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9651-F1CB-49FE-A071-846ECE80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E5AE-3C75-4C28-AB34-4E22E96D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957D-AE54-4AA5-90B3-9BDA9ADE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CD4E-4316-45BB-BA44-86920807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8F69-8F97-49AC-A5C3-F750AF8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EF8F-9AA2-4190-8030-B633F012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C7E9-224F-4429-BAA0-357AAEA4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F144-2D29-4036-9BF2-D44B3EF6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A982-A285-4EB8-9969-A5517480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90D1-46F7-4993-A39E-5344BDE1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F8B40-D3D9-42D2-8CCE-AFBB068D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5A0C-EB10-4460-85DF-C6F7D36D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929C-0E0D-41C3-8E27-28B548B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C309-2FF2-4ACB-AE09-B89CB62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8F00-1649-49D1-919F-3D4BDF8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6458-D0B1-4532-9606-48B82C5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1702-5968-4AF0-BDA6-3A1103E3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03E3-ECEA-4060-A419-62038A14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9E87A-BF3E-4FE8-B527-5CA1EE89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2CD69-BD7F-428B-A5BB-BD83CB80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DBC8-B15F-4228-B07E-CF2CFFDF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B489-D872-4CA9-89A2-53C438C1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883FF-D9DA-428A-828F-EB292A0A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94DA-B243-4F3A-AEA9-1AD135A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75A48-D970-4069-9109-8F6AB202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303B7-8525-44EC-B755-0C284A2A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C060-BF6D-4763-98A6-36409FD6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EFF2-3D68-49B6-9EA6-086B72FF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1DBAE-D0A6-4985-83BB-BA2B6DA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056B3-A15F-4880-9701-427DEE57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F202-A21B-499C-8BAD-839AD8D8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87F1F-DC9E-46C4-BD97-4B12044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B4EF3-2661-4E5E-B470-EFFA2D00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58911-9F04-4931-AFED-F86C3A40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D4FAF-CF9B-43E5-86FC-AA6B8EF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B6F4-A758-483C-9EE4-EC44E9B7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32A6-C29F-4C9B-A968-F9B4B97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B3085-08AF-4699-98FB-C2CFB98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460BA-E6C3-4CD8-BB90-CBEF740C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2DFA7-47A8-4553-9ABB-7CAD23E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28E28-3CD0-41F3-815D-2CF5FF3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34F3-4674-4383-AB25-C181882D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2E2CA-2766-4303-9395-0C3D15D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7CF0-BDF7-4C0C-AFDF-7232C3BE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9052-DBF1-43BE-886A-4954683E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B29C-FD2B-4E6A-A8F6-A5EC47E8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90AD7-2760-4581-87EE-08ACBFAB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B4F3E-2150-49C9-8B86-5468103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B3557-BDC2-47A7-84F8-EB83971C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1B4AA-7B3A-4135-A47C-947C9A4E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280E0-AC77-4A83-A34D-2D040ECC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0FB1E-187E-443C-BEE6-A8CF2EF5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E836-C8AA-45B2-AF49-0C50F38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C2A2-2E87-4C84-ACAD-0C3538B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395D5-A9D8-44B6-A033-5BE69857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866C-AE85-4E66-B92C-272871AC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D830-DC0B-4341-9AAF-0CB9ADA3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3F51-1980-42DC-B911-74F03480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64B4-3326-4FC8-942D-68BD6220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D9EE0-0D18-428D-931F-574BC62F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CD72-50A6-43AB-A664-E20C5A6E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27E3-C67A-4385-AE32-4E2F8026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BCC49-F3EF-4E33-8F64-175C1995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C78D-AC5D-40A3-B717-F20E9C0F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CBC00-05A5-4391-AA86-DB5F6DE0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05F7-55BF-4918-B846-AB706B93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90612-3123-4428-A075-FEB9EDBE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AD5FC-445B-48CF-9ECF-DA567A45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3D4C8-A62C-45F0-B3DE-731F9BA9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AE7C9-166C-4D90-8B92-E1FCC66B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D1C20-03FA-4EF1-8763-544733E9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EFCEB-C2BC-4C99-B397-5333645F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B410-18A9-4086-AE51-1C9F909954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75A3-D224-4A65-87C7-A750B59691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FD26-CB7F-4E27-84E8-7AAC09624C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E724-D47D-4155-828C-B3701CDC048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9D80-A866-49A5-B9AA-10D74309CE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020-8686-4031-B429-4F0B4CE8AF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DB6F-516A-460C-885E-F86236C2B6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3B31-879B-4E02-8BE7-205221E46F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1CB2-DB26-4326-9687-0915688C3E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139680" y="103320"/>
            <a:ext cx="24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cccc"/>
                </a:solidFill>
                <a:latin typeface="Arial"/>
                <a:ea typeface="Arial"/>
              </a:rPr>
              <a:t>Biologjia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BA8F-CCD6-468F-BF46-F2A6832A79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7" descr="_x000e_TBPH7A6.01.jpg                                                 00006EE3_x0006_HUNTER                         BC5B7B6E:"/>
          <p:cNvPicPr/>
          <p:nvPr/>
        </p:nvPicPr>
        <p:blipFill>
          <a:blip r:embed="rId1"/>
          <a:stretch/>
        </p:blipFill>
        <p:spPr>
          <a:xfrm>
            <a:off x="3833640" y="3044880"/>
            <a:ext cx="2262240" cy="253836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6"/>
          <p:cNvSpPr/>
          <p:nvPr/>
        </p:nvSpPr>
        <p:spPr>
          <a:xfrm>
            <a:off x="0" y="692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4400" spc="-1" strike="noStrike">
                <a:solidFill>
                  <a:srgbClr val="000000"/>
                </a:solidFill>
                <a:latin typeface="Arial"/>
                <a:ea typeface="Arial"/>
              </a:rPr>
              <a:t>Pjalmi dhe ovul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6"/>
          <p:cNvSpPr/>
          <p:nvPr/>
        </p:nvSpPr>
        <p:spPr>
          <a:xfrm>
            <a:off x="4343400" y="2359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TË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7"/>
          <p:cNvSpPr/>
          <p:nvPr/>
        </p:nvSpPr>
        <p:spPr>
          <a:xfrm flipH="1">
            <a:off x="4648320" y="273996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4952880" y="273996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6516720" y="45687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ënpe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6464160" y="5559480"/>
            <a:ext cx="21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EKTAR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21"/>
          <p:cNvSpPr/>
          <p:nvPr/>
        </p:nvSpPr>
        <p:spPr>
          <a:xfrm>
            <a:off x="3124080" y="563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vul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2"/>
          <p:cNvSpPr/>
          <p:nvPr/>
        </p:nvSpPr>
        <p:spPr>
          <a:xfrm>
            <a:off x="2057400" y="5178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vez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23"/>
          <p:cNvSpPr/>
          <p:nvPr/>
        </p:nvSpPr>
        <p:spPr>
          <a:xfrm>
            <a:off x="1979640" y="4721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htyllë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4"/>
          <p:cNvSpPr/>
          <p:nvPr/>
        </p:nvSpPr>
        <p:spPr>
          <a:xfrm>
            <a:off x="2057400" y="4264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krez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5"/>
          <p:cNvSpPr/>
          <p:nvPr/>
        </p:nvSpPr>
        <p:spPr>
          <a:xfrm>
            <a:off x="2039760" y="29941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jal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26"/>
          <p:cNvSpPr/>
          <p:nvPr/>
        </p:nvSpPr>
        <p:spPr>
          <a:xfrm>
            <a:off x="2050920" y="3375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380880" y="3121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K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28"/>
          <p:cNvSpPr/>
          <p:nvPr/>
        </p:nvSpPr>
        <p:spPr>
          <a:xfrm>
            <a:off x="5435640" y="4797360"/>
            <a:ext cx="1117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29"/>
          <p:cNvSpPr/>
          <p:nvPr/>
        </p:nvSpPr>
        <p:spPr>
          <a:xfrm>
            <a:off x="5099040" y="5273640"/>
            <a:ext cx="1371600" cy="527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30"/>
          <p:cNvSpPr/>
          <p:nvPr/>
        </p:nvSpPr>
        <p:spPr>
          <a:xfrm flipH="1">
            <a:off x="3962520" y="4968720"/>
            <a:ext cx="901440" cy="743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31"/>
          <p:cNvSpPr/>
          <p:nvPr/>
        </p:nvSpPr>
        <p:spPr>
          <a:xfrm flipH="1">
            <a:off x="3429000" y="4950000"/>
            <a:ext cx="137160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32"/>
          <p:cNvSpPr/>
          <p:nvPr/>
        </p:nvSpPr>
        <p:spPr>
          <a:xfrm flipH="1">
            <a:off x="3276720" y="4264200"/>
            <a:ext cx="167616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33"/>
          <p:cNvSpPr/>
          <p:nvPr/>
        </p:nvSpPr>
        <p:spPr>
          <a:xfrm flipH="1">
            <a:off x="3428640" y="4035600"/>
            <a:ext cx="152388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34"/>
          <p:cNvSpPr/>
          <p:nvPr/>
        </p:nvSpPr>
        <p:spPr>
          <a:xfrm flipH="1" flipV="1">
            <a:off x="3619080" y="3679560"/>
            <a:ext cx="12193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35"/>
          <p:cNvSpPr/>
          <p:nvPr/>
        </p:nvSpPr>
        <p:spPr>
          <a:xfrm flipH="1" flipV="1">
            <a:off x="3352680" y="3273120"/>
            <a:ext cx="1301760" cy="323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36"/>
          <p:cNvSpPr/>
          <p:nvPr/>
        </p:nvSpPr>
        <p:spPr>
          <a:xfrm>
            <a:off x="380880" y="1484280"/>
            <a:ext cx="829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A mund të emërtosh pjesët e një luleje? Fillo në majë dhe vazhdo poshtë në drejtimin e kundërt të akrepave të sahat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"/>
          <p:cNvSpPr/>
          <p:nvPr/>
        </p:nvSpPr>
        <p:spPr>
          <a:xfrm>
            <a:off x="5261760" y="49320"/>
            <a:ext cx="38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Arial"/>
              </a:rPr>
              <a:t>2 </a:t>
            </a:r>
            <a:r>
              <a:rPr b="0" lang="sq-AL" sz="1800" spc="-1" strike="noStrike">
                <a:solidFill>
                  <a:srgbClr val="000000"/>
                </a:solidFill>
                <a:latin typeface="Arial"/>
                <a:ea typeface="Arial"/>
              </a:rPr>
              <a:t>Shumimi seksual në bimët me l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3"/>
          <p:cNvSpPr/>
          <p:nvPr/>
        </p:nvSpPr>
        <p:spPr>
          <a:xfrm>
            <a:off x="900000" y="4618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Thekët e një luleje prodhojnë pjalm. Pjalmi lëviz nga një lule në tjetrën e mbartur nga kandrrat, zogjtë ose era. Ky quhet 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pjalmi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4" descr="C:\Users\Sarah\Dropbox\work\CIE Science Teachers CD\05. Artwork\Stage 9\Sourced\camb_tcd_l9_bio_ch02_PPT1_1.jpg"/>
          <p:cNvPicPr/>
          <p:nvPr/>
        </p:nvPicPr>
        <p:blipFill>
          <a:blip r:embed="rId1"/>
          <a:stretch/>
        </p:blipFill>
        <p:spPr>
          <a:xfrm>
            <a:off x="2411280" y="1027080"/>
            <a:ext cx="435636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560" y="4433760"/>
            <a:ext cx="8677080" cy="18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Disa kokrriza pjalmi janë shumë të lehta dhe mund të mbarten nga ajri. Të tjera kanë struktura që kapen në qimet e kandr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Brenda kokrrizës pjalmi ka qeliza të veçanta që janë qelizat seksuale mashkullore të bimë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4" descr="C:\Users\Sarah\Dropbox\work\CIE Science Teachers CD\05. Artwork\Stage 9\Sourced\camb_tcd_l9_bio_ch02_PPT1_2.jpg"/>
          <p:cNvPicPr/>
          <p:nvPr/>
        </p:nvPicPr>
        <p:blipFill>
          <a:blip r:embed="rId1"/>
          <a:stretch/>
        </p:blipFill>
        <p:spPr>
          <a:xfrm>
            <a:off x="2411280" y="1023840"/>
            <a:ext cx="43592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"/>
          <p:cNvSpPr/>
          <p:nvPr/>
        </p:nvSpPr>
        <p:spPr>
          <a:xfrm>
            <a:off x="838080" y="115416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Disa kokrriza pjalmi mbeten (ngjiten) në tretësirën sheqerore në 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krezë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838080" y="285264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Sheqeri e bën kokrrizën e pjalmit të fillojë të rritë një gyp të gjatë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2"/>
          <p:cNvSpPr/>
          <p:nvPr/>
        </p:nvSpPr>
        <p:spPr>
          <a:xfrm>
            <a:off x="838080" y="453852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Gypi pjalmor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 rritet poshtë nëpër 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shtyllëz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 drejt një 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ovule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67164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103"/>
          <p:cNvSpPr/>
          <p:nvPr/>
        </p:nvSpPr>
        <p:spPr>
          <a:xfrm>
            <a:off x="838080" y="119700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Bërthama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 e qelizave të pjalmit udhëton poshtë nëpër gypin pjalmor dhe bashkohet me bërthamën e vezës në 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ovulë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104"/>
          <p:cNvSpPr/>
          <p:nvPr/>
        </p:nvSpPr>
        <p:spPr>
          <a:xfrm>
            <a:off x="838080" y="317196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Ky quhet </a:t>
            </a:r>
            <a:r>
              <a:rPr b="1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pllenim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105"/>
          <p:cNvSpPr/>
          <p:nvPr/>
        </p:nvSpPr>
        <p:spPr>
          <a:xfrm>
            <a:off x="838080" y="3716280"/>
            <a:ext cx="4114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Tashmë të dy bërthamat që bashkohen së bashku formohet një embrion. Formohet një farë. Fara ka një mbulesë mbrojtëse (mburojë) dhe një rezervë lëndësh ushqy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367164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0"/>
          <p:cNvSpPr/>
          <p:nvPr/>
        </p:nvSpPr>
        <p:spPr>
          <a:xfrm>
            <a:off x="4043520" y="23036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1. Pjalmi vendoset në krez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052880" y="283680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2. Pjalmi formohet në pjal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4067280" y="33861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3. Bërthama bashkohet me qelizë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vez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në ovul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4067280" y="420840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4. Gypi pjalmor arrin ovul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4067280" y="4741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5. Fillon të formohet gypi pjalm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4067280" y="527544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6. Bërthama udhëton poshtë në gypin pjal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6"/>
          <p:cNvSpPr/>
          <p:nvPr/>
        </p:nvSpPr>
        <p:spPr>
          <a:xfrm>
            <a:off x="684360" y="148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A mund t’i vendosësh këto ngjarje në renditjen e duh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7" descr="_x000e_TBPH7A6.04.jpg                                                 00006EE3_x0006_HUNTER                         BC5B7B6E:"/>
          <p:cNvPicPr/>
          <p:nvPr/>
        </p:nvPicPr>
        <p:blipFill>
          <a:blip r:embed="rId1"/>
          <a:stretch/>
        </p:blipFill>
        <p:spPr>
          <a:xfrm>
            <a:off x="1143000" y="2762280"/>
            <a:ext cx="22622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7"/>
          <p:cNvSpPr/>
          <p:nvPr/>
        </p:nvSpPr>
        <p:spPr>
          <a:xfrm>
            <a:off x="3746520" y="2260440"/>
            <a:ext cx="486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2. Pjalmi formohet në pjal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1. Pjalmi vendoset në krezë</a:t>
            </a:r>
            <a:br>
              <a:rPr sz="2400"/>
            </a:b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5. Fillon të formohet gypi pjalmor</a:t>
            </a:r>
            <a:br>
              <a:rPr sz="2400"/>
            </a:b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4. Gypi pjalmor arrin ovulën</a:t>
            </a:r>
            <a:br>
              <a:rPr sz="2400"/>
            </a:b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6. Bërthama udhëton poshtë n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gypin pjalmor</a:t>
            </a:r>
            <a:br>
              <a:rPr sz="2400"/>
            </a:b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3. Bërthama bashkohet me qelizën vezë në ovul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16" descr="_x000e_TBPH7A6.05.jpg                                                 00006EE3_x0006_HUNTER                         BC5B7B6E:"/>
          <p:cNvPicPr/>
          <p:nvPr/>
        </p:nvPicPr>
        <p:blipFill>
          <a:blip r:embed="rId1"/>
          <a:stretch/>
        </p:blipFill>
        <p:spPr>
          <a:xfrm>
            <a:off x="990720" y="2514600"/>
            <a:ext cx="2262240" cy="253836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6"/>
          <p:cNvSpPr/>
          <p:nvPr/>
        </p:nvSpPr>
        <p:spPr>
          <a:xfrm>
            <a:off x="684360" y="1484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q-AL" sz="2400" spc="-1" strike="noStrike">
                <a:solidFill>
                  <a:srgbClr val="000000"/>
                </a:solidFill>
                <a:latin typeface="Arial"/>
                <a:ea typeface="Arial"/>
              </a:rPr>
              <a:t>Rendija e saktë është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22:01:59Z</dcterms:created>
  <dc:creator/>
  <dc:description/>
  <dc:language>en-US</dc:language>
  <cp:lastModifiedBy/>
  <dcterms:modified xsi:type="dcterms:W3CDTF">2018-03-13T13:13:29Z</dcterms:modified>
  <cp:revision>1</cp:revision>
  <dc:subject/>
  <dc:title/>
</cp:coreProperties>
</file>