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584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FE82-B1AC-41EA-96AD-5BD8B48C23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C53E-309F-4939-8447-EA46783576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44F7-A161-41F1-9C47-FF6FDBBAF5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246A-9F03-4292-8508-F8EC9BB10F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C480-07E9-4CB3-BF97-68BC212CBB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8458-E099-400B-ADF3-A8CE555B7A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C0A3-26CD-4571-B740-077ECEFF98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C37F-8FB1-42CB-A105-8F56D86CCE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C0AD0-9372-4507-A648-96BE3C3E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B4BAF-F9B6-4042-9903-38D1AA67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AEA71-EACD-4501-8ECD-18843C55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6A2FB-91F7-4339-BD8F-626179D3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A0437-CFF4-4BE0-AA6A-D330212D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03731-8CAA-4330-AD9A-77291AD8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0E499-59A1-441A-A35B-3FBF7649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AD96A-3741-452A-9507-9E0A3AC4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4F75D-3064-4A39-BAC0-1643DB5E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48B09-D3D2-44FD-B7C0-60AF5EC4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DD5BF-0AAB-4F8B-A00E-02E955B2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8B9AB-DF3E-40FB-BA3E-8275D904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4D1FB-B174-49E9-8E39-BD2274C8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E6116-720C-4400-9EA9-744FFBE4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FA726-3F2E-449C-8717-ACA68B19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23969-81A1-448D-9F48-69C54F84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34F55-8835-4481-828E-9A1B7D61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E0115-8383-44B7-BAC9-AEE5546B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7CEDB-0E27-46B7-836F-C6458DE3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CD672-17F9-452A-BC70-89384A25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8207C-7E16-4BF0-B83B-DEF2C24E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2E7CE-D30C-44B5-91A4-A891B9F1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694D5-1B27-47D2-9BD6-92FEB75B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BE32A-E68E-4F82-85E8-E6466E2D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10DC7-0FB6-4B72-B6DB-EA9DEF40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0090C-EEB6-4A95-BB26-893D7AC3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C90EE-A44F-4DA7-990C-6420319D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CB7A0-D386-40A0-B652-683964E4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6FDCA-ECDC-45E0-B44B-7CE0ED1A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5353C-93EA-42B7-B6EA-BAD7765D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299-A37F-4AAE-ACC6-303CF15E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6ABB8-3E6A-41A3-AA0A-CDF1EF8F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CBF29-B2DE-449D-B825-AC271EE3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DB941-1E83-4577-AA1D-97D26FEF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B3554-2944-4632-91D6-BA1D2A8C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AF6A3-4758-49DB-82AF-CD8C53CC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94D21-71B8-481C-BA16-2B85CA8F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77610-64C2-4755-87AC-B0947E8B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B566D-66E5-42C1-AF3F-DF75FAD4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39ECA-5C67-4FA4-9EF2-D664D709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C3A7A-8AA5-44F2-B922-FE8F5A61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8B64-FCD0-4D04-86F9-C09505BC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B71DF-44C4-4CDE-83AF-AB7AD481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DC38B-5DAA-425A-9BB7-9F8AE83D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B4316-62B2-4050-AF15-F2F1292D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B6D4B-6604-4DCE-995C-61C07A96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7BB9F-09B6-4802-928F-0791570D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52F0-AAFA-4AB3-810A-F1090E94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068C-DC14-46D9-9361-8CF0027F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8F9B-AA1A-4FFE-BF9E-464FEED4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5400-76FB-4507-A095-364C679A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B626-EB07-4249-A27C-B181920A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42E6-FBFE-4E9D-AF6D-983FAE76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993F-3C9D-483B-A51F-65330A64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CABC-9697-4BBB-8D22-177EC405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C587-F5A5-44BB-9D4D-AA469D8D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D851-40FA-4317-9378-0B75E6D7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D5F0-0DA6-418A-80DB-9651424F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FCE7-3993-4BF1-A288-32D20F85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1D8A-F52B-4A2B-8EBE-FDDA6C0F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3F66-C78D-4710-AE40-F16EA48E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44B1-C1A6-4D65-A964-7A3DA0EB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9D4F-1A1F-4E3E-BF58-BE3F98EF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8212-545F-4FD4-B219-183936F1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2814-7288-48D7-9A99-4BA4508C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CA2E-EE12-43B9-8C4A-6C59A906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BFF3-3A80-4207-A452-B0B990F0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8289-B509-4D69-8E8A-FA3DE378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21EBA-7755-4115-884A-CEC372B7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B352D-0840-4427-A23F-5FB25188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AAC3F-A5D8-4180-B4B9-590F734A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BEAAE-E1A6-4179-BD05-6BAA23BB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90E30-76B1-4FF5-9686-8FFBF10F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23CAF-7828-40C0-9EBA-E701DAAE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9E433-58F3-4B0F-A87C-4CF80184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0C30E-62EE-416D-8EFB-430817B6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6EE96-B022-4D56-8DE9-ED5FDEF4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756E0-31E7-48D5-9006-93AB3532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11A4D-4A01-4BC6-9D41-507FCE28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19F76-01E8-4D50-AB74-BECC7489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7883A-AA88-4F88-B2FE-4E0FF725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83651-25FF-493E-B45A-3BE1356D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664A4-170B-43BB-B6DF-A381A92B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9EF1B-0D4C-499B-AEC9-EEAF77C1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99F01-C8B2-44F9-87AA-6B76E8BE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F5468-4803-4672-A967-D18B46B1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F6651-71E1-4E57-9920-4E34FB1D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BDD80-1A08-4ABD-BC1D-5636D1BB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53C94-B9DB-4721-A172-3EC2EF91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73CFA-3D53-4BDD-A9D8-C903AAB3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DA97C-F11B-4D22-B2DA-13DD4983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B80E6-8D55-4F90-A7C5-2090FE48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5D80B-3B5A-4827-9266-AF10C84A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4F59F-5A3F-48E0-807C-CCF5B7D4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BFA5A-A977-483A-AC75-E28F53AB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4E483-7ECB-4920-B5BE-13D6CBE3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D75ED-129E-4320-8441-E6C9B39B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05E0D-F784-471C-8963-4A0F0132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8CFF9-68DF-431F-8652-ED16E68A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B9502-E6FB-4B8C-A68D-31CAE61A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10B5E-DBC5-4E84-A875-FDE43C04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751B2-9DDA-4DD6-BA35-BCFC2550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D2BDA-C31C-425D-B323-D23E12CB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7E6D2-AA1B-4A63-95F4-AA1FAC36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1634E-A161-42F1-808E-9BD044E9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7C217-775C-42AE-B1A5-4D773330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EED26-75DB-4807-A3D5-509A860E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CAB5A-1727-4CE7-8DD9-51175FF3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83C30-6A81-4F7A-8322-5DBA35F6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3471F-F2E5-47D4-9B57-1A36BEA0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2F9A2-EEEB-4D90-B269-72970440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15D69-00D2-4530-84AF-59DA9B9B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F51E2-E8BE-401F-B5D8-22A80C6E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BE758-1FEB-4300-9AC2-3191676D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20A43-4C93-4782-A1EC-39CBDBF8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0C767-0FAD-42CE-A2D7-DCEAA1F7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C2DF3-9645-4607-9F0C-BDE1188F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892EB-9397-423D-A268-F3E75A69C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8DDBC-AFB4-4B20-B3E9-F661C684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92622-D79C-44A6-9D21-EBE2F8EF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1BEEB-E739-42AF-BACF-AE903FF6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298B8-C7C1-46EA-9624-A274A614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531FE-ADF8-4D82-BDAC-77FD988D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8BF21-0FB6-4D9D-9A85-542A1796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356B7-B0B3-4432-95F0-224A3C59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228D4-525B-4071-AE72-9DBBB358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9342B-ABAD-4DF8-AADA-5E134B3A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7A72E-A20C-4EC2-86F4-CB406948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DDD9E-C92C-4854-921C-06B05A0F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04325-CA31-47EA-B40E-29577F19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05359-3195-43EA-9739-86F028B0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4D380-E9EC-4BD8-935C-C8C6CE08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6B13-7E92-484F-AFAF-2E3F8950106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EA47-E27C-4E23-9B23-E39F158CA78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496F-C91B-4EB4-BCDA-EE7F3B1C91B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ACF9-817D-4608-9231-22111940B0D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FF7F-E155-4768-B120-355D3B77340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467F-F1C1-4DA0-A633-D151F91E431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A12B-19B6-4361-AA73-F15E7DB267D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EAE9-FAD3-40B1-B59A-99FA24E59A5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6175-C61E-40B1-B046-955441306F2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01F1-8895-4749-BB78-F5CA3569C6E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EFE2-F56A-4FB3-9662-4464275D9AB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4360" y="101448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sq-AL" sz="4400" spc="-1" strike="noStrike">
                <a:solidFill>
                  <a:srgbClr val="000000"/>
                </a:solidFill>
                <a:latin typeface="Arial"/>
                <a:ea typeface="Arial"/>
              </a:rPr>
              <a:t>rjetet ushqi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68360" y="1771200"/>
            <a:ext cx="820728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Këtu paraqitet një pjesë e një rrj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 ushqimor në një pell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000" spc="-1" strike="noStrike">
                <a:solidFill>
                  <a:srgbClr val="000000"/>
                </a:solidFill>
                <a:latin typeface="Arial"/>
                <a:ea typeface="Arial"/>
              </a:rPr>
              <a:t>A janë etiketat </a:t>
            </a:r>
            <a:r>
              <a:rPr b="1" lang="sq-AL" sz="2000" spc="-1" strike="noStrike">
                <a:solidFill>
                  <a:srgbClr val="000000"/>
                </a:solidFill>
                <a:latin typeface="Arial"/>
                <a:ea typeface="Arial"/>
              </a:rPr>
              <a:t>grabitqarë</a:t>
            </a:r>
            <a:r>
              <a:rPr b="0" lang="sq-AL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q-AL" sz="2000" spc="-1" strike="noStrike">
                <a:solidFill>
                  <a:srgbClr val="000000"/>
                </a:solidFill>
                <a:latin typeface="Arial"/>
                <a:ea typeface="Arial"/>
              </a:rPr>
              <a:t>konsumatorë të parë</a:t>
            </a:r>
            <a:r>
              <a:rPr b="0" lang="sq-AL" sz="2000" spc="-1" strike="noStrike">
                <a:solidFill>
                  <a:srgbClr val="000000"/>
                </a:solidFill>
                <a:latin typeface="Arial"/>
                <a:ea typeface="Arial"/>
              </a:rPr>
              <a:t> dhe </a:t>
            </a:r>
            <a:r>
              <a:rPr b="1" lang="sq-AL" sz="2000" spc="-1" strike="noStrike">
                <a:solidFill>
                  <a:srgbClr val="000000"/>
                </a:solidFill>
                <a:latin typeface="Arial"/>
                <a:ea typeface="Arial"/>
              </a:rPr>
              <a:t>prodhues</a:t>
            </a:r>
            <a:r>
              <a:rPr b="0" lang="sq-AL" sz="2000" spc="-1" strike="noStrike">
                <a:solidFill>
                  <a:srgbClr val="000000"/>
                </a:solidFill>
                <a:latin typeface="Arial"/>
                <a:ea typeface="Arial"/>
              </a:rPr>
              <a:t> në vendet e duhur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000" spc="-1" strike="noStrike">
                <a:solidFill>
                  <a:srgbClr val="000000"/>
                </a:solidFill>
                <a:latin typeface="Arial"/>
                <a:ea typeface="Arial"/>
              </a:rPr>
              <a:t>Cilët janë zinxhirët ushqimorë që përbëjnë rrjetin ushqimore?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812880" y="4722840"/>
            <a:ext cx="187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Kërminj pellg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2"/>
          <p:cNvSpPr/>
          <p:nvPr/>
        </p:nvSpPr>
        <p:spPr>
          <a:xfrm flipH="1" flipV="1">
            <a:off x="2109960" y="5082840"/>
            <a:ext cx="57600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3"/>
          <p:cNvSpPr/>
          <p:nvPr/>
        </p:nvSpPr>
        <p:spPr>
          <a:xfrm flipH="1" flipV="1">
            <a:off x="4413240" y="5083200"/>
            <a:ext cx="1224000" cy="649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4"/>
          <p:cNvSpPr/>
          <p:nvPr/>
        </p:nvSpPr>
        <p:spPr>
          <a:xfrm flipH="1" flipV="1">
            <a:off x="6141960" y="4290480"/>
            <a:ext cx="144720" cy="144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5"/>
          <p:cNvSpPr/>
          <p:nvPr/>
        </p:nvSpPr>
        <p:spPr>
          <a:xfrm flipV="1">
            <a:off x="3765600" y="4290840"/>
            <a:ext cx="0" cy="433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6"/>
          <p:cNvSpPr/>
          <p:nvPr/>
        </p:nvSpPr>
        <p:spPr>
          <a:xfrm flipV="1">
            <a:off x="4052880" y="4290840"/>
            <a:ext cx="129528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7"/>
          <p:cNvSpPr/>
          <p:nvPr/>
        </p:nvSpPr>
        <p:spPr>
          <a:xfrm flipV="1">
            <a:off x="1965240" y="4290840"/>
            <a:ext cx="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8"/>
          <p:cNvSpPr/>
          <p:nvPr/>
        </p:nvSpPr>
        <p:spPr>
          <a:xfrm flipV="1">
            <a:off x="2252520" y="3569760"/>
            <a:ext cx="107964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9"/>
          <p:cNvSpPr/>
          <p:nvPr/>
        </p:nvSpPr>
        <p:spPr>
          <a:xfrm flipV="1">
            <a:off x="3765600" y="357156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21"/>
          <p:cNvSpPr/>
          <p:nvPr/>
        </p:nvSpPr>
        <p:spPr>
          <a:xfrm flipH="1" flipV="1">
            <a:off x="4628880" y="3570120"/>
            <a:ext cx="865080" cy="362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22"/>
          <p:cNvSpPr/>
          <p:nvPr/>
        </p:nvSpPr>
        <p:spPr>
          <a:xfrm>
            <a:off x="6994440" y="3932280"/>
            <a:ext cx="138924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5ab4e"/>
                </a:solidFill>
                <a:latin typeface="Arial"/>
                <a:ea typeface="Arial"/>
              </a:rPr>
              <a:t>Produc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23"/>
          <p:cNvSpPr/>
          <p:nvPr/>
        </p:nvSpPr>
        <p:spPr>
          <a:xfrm>
            <a:off x="6861240" y="4684680"/>
            <a:ext cx="1527120" cy="55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5ab4e"/>
                </a:solidFill>
                <a:latin typeface="Arial"/>
                <a:ea typeface="Arial"/>
              </a:rPr>
              <a:t>Konsumator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5ab4e"/>
                </a:solidFill>
                <a:latin typeface="Arial"/>
                <a:ea typeface="Arial"/>
              </a:rPr>
              <a:t>të par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4"/>
          <p:cNvSpPr/>
          <p:nvPr/>
        </p:nvSpPr>
        <p:spPr>
          <a:xfrm>
            <a:off x="6994440" y="5661000"/>
            <a:ext cx="13892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5ab4e"/>
                </a:solidFill>
                <a:latin typeface="Arial"/>
                <a:ea typeface="Arial"/>
              </a:rPr>
              <a:t>Pred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30"/>
          <p:cNvSpPr/>
          <p:nvPr/>
        </p:nvSpPr>
        <p:spPr>
          <a:xfrm flipH="1" flipV="1">
            <a:off x="2109960" y="5082840"/>
            <a:ext cx="576000" cy="647640"/>
          </a:xfrm>
          <a:prstGeom prst="line">
            <a:avLst/>
          </a:prstGeom>
          <a:ln w="57240">
            <a:solidFill>
              <a:srgbClr val="15ab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31"/>
          <p:cNvSpPr/>
          <p:nvPr/>
        </p:nvSpPr>
        <p:spPr>
          <a:xfrm flipV="1">
            <a:off x="1965240" y="4290840"/>
            <a:ext cx="0" cy="432000"/>
          </a:xfrm>
          <a:prstGeom prst="line">
            <a:avLst/>
          </a:prstGeom>
          <a:ln w="57240">
            <a:solidFill>
              <a:srgbClr val="15ab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32"/>
          <p:cNvSpPr/>
          <p:nvPr/>
        </p:nvSpPr>
        <p:spPr>
          <a:xfrm flipV="1">
            <a:off x="2252520" y="3569760"/>
            <a:ext cx="1079640" cy="360360"/>
          </a:xfrm>
          <a:prstGeom prst="line">
            <a:avLst/>
          </a:prstGeom>
          <a:ln w="57240">
            <a:solidFill>
              <a:srgbClr val="15ab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33"/>
          <p:cNvSpPr/>
          <p:nvPr/>
        </p:nvSpPr>
        <p:spPr>
          <a:xfrm flipH="1" flipV="1">
            <a:off x="4413240" y="5081400"/>
            <a:ext cx="1224000" cy="649080"/>
          </a:xfrm>
          <a:prstGeom prst="line">
            <a:avLst/>
          </a:prstGeom>
          <a:ln w="572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34"/>
          <p:cNvSpPr/>
          <p:nvPr/>
        </p:nvSpPr>
        <p:spPr>
          <a:xfrm flipV="1">
            <a:off x="3765600" y="4289400"/>
            <a:ext cx="0" cy="433440"/>
          </a:xfrm>
          <a:prstGeom prst="line">
            <a:avLst/>
          </a:prstGeom>
          <a:ln w="572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35"/>
          <p:cNvSpPr/>
          <p:nvPr/>
        </p:nvSpPr>
        <p:spPr>
          <a:xfrm flipV="1">
            <a:off x="3765600" y="3569760"/>
            <a:ext cx="0" cy="360360"/>
          </a:xfrm>
          <a:prstGeom prst="line">
            <a:avLst/>
          </a:prstGeom>
          <a:ln w="572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36"/>
          <p:cNvSpPr/>
          <p:nvPr/>
        </p:nvSpPr>
        <p:spPr>
          <a:xfrm flipV="1">
            <a:off x="4052880" y="4290840"/>
            <a:ext cx="1295280" cy="432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37"/>
          <p:cNvSpPr/>
          <p:nvPr/>
        </p:nvSpPr>
        <p:spPr>
          <a:xfrm flipH="1" flipV="1">
            <a:off x="4628880" y="3570120"/>
            <a:ext cx="865080" cy="362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38"/>
          <p:cNvSpPr/>
          <p:nvPr/>
        </p:nvSpPr>
        <p:spPr>
          <a:xfrm flipH="1" flipV="1">
            <a:off x="4557600" y="5081400"/>
            <a:ext cx="1224000" cy="64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39"/>
          <p:cNvSpPr/>
          <p:nvPr/>
        </p:nvSpPr>
        <p:spPr>
          <a:xfrm flipH="1" flipV="1">
            <a:off x="6141960" y="4290480"/>
            <a:ext cx="144720" cy="1441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40"/>
          <p:cNvSpPr/>
          <p:nvPr/>
        </p:nvSpPr>
        <p:spPr>
          <a:xfrm flipH="1" flipV="1">
            <a:off x="4844880" y="3570120"/>
            <a:ext cx="865440" cy="3621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Group 45"/>
          <p:cNvGrpSpPr/>
          <p:nvPr/>
        </p:nvGrpSpPr>
        <p:grpSpPr>
          <a:xfrm>
            <a:off x="6988320" y="3932280"/>
            <a:ext cx="1400040" cy="2087640"/>
            <a:chOff x="6988320" y="3932280"/>
            <a:chExt cx="1400040" cy="2087640"/>
          </a:xfrm>
        </p:grpSpPr>
        <p:sp>
          <p:nvSpPr>
            <p:cNvPr id="535" name="Rectangle 43"/>
            <p:cNvSpPr/>
            <p:nvPr/>
          </p:nvSpPr>
          <p:spPr>
            <a:xfrm>
              <a:off x="6988320" y="3932280"/>
              <a:ext cx="1388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5ab4e"/>
                  </a:solidFill>
                  <a:latin typeface="Arial"/>
                  <a:ea typeface="Arial"/>
                </a:rPr>
                <a:t>Grabitqar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Rectangle 44"/>
            <p:cNvSpPr/>
            <p:nvPr/>
          </p:nvSpPr>
          <p:spPr>
            <a:xfrm>
              <a:off x="6999480" y="5661000"/>
              <a:ext cx="1388880" cy="3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15ab4e"/>
                  </a:solidFill>
                  <a:latin typeface="Arial"/>
                  <a:ea typeface="Arial"/>
                </a:rPr>
                <a:t>Prodh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TextBox 1"/>
          <p:cNvSpPr/>
          <p:nvPr/>
        </p:nvSpPr>
        <p:spPr>
          <a:xfrm>
            <a:off x="3048840" y="31680"/>
            <a:ext cx="604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  <a:ea typeface="Arial"/>
              </a:rPr>
              <a:t>3.2 Zinxhirët ushqimorë, rrjetet ushqimore dhe transferim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  <a:ea typeface="Arial"/>
              </a:rPr>
              <a:t>(rrjedha) e energjisë</a:t>
            </a:r>
            <a:br>
              <a:rPr sz="1800"/>
            </a:br>
            <a:r>
              <a:rPr b="0" lang="sq-AL" sz="1800" spc="-1" strike="noStrike">
                <a:solidFill>
                  <a:srgbClr val="000000"/>
                </a:solidFill>
                <a:latin typeface="Arial"/>
                <a:ea typeface="Arial"/>
              </a:rPr>
              <a:t>3.3 Shpërbërësit, nivelet ushqimore dhe ricikli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677960" y="5661000"/>
            <a:ext cx="187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l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9"/>
          <p:cNvSpPr/>
          <p:nvPr/>
        </p:nvSpPr>
        <p:spPr>
          <a:xfrm>
            <a:off x="4989600" y="5661000"/>
            <a:ext cx="187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litoplank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4700520" y="3930480"/>
            <a:ext cx="2287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rva mushkonj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3046320" y="3209760"/>
            <a:ext cx="187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sh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3046320" y="3930480"/>
            <a:ext cx="1366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leshta u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2973240" y="4722840"/>
            <a:ext cx="187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tozoar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1019160" y="3932280"/>
            <a:ext cx="1317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ushu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685800" y="1992240"/>
            <a:ext cx="7772400" cy="32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rjetet ushqimore tregojnë se kafshët shpesh kanë më shumë se një burim ushqi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Në bazë janë prodhues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Të gjitha kafshët janë konsumat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Gjallesat në të njëjtin nivel konkurrojnë për ushq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522360" y="689040"/>
            <a:ext cx="81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sq-AL" sz="4000" spc="-1" strike="noStrike">
                <a:solidFill>
                  <a:srgbClr val="000000"/>
                </a:solidFill>
                <a:latin typeface="Arial"/>
                <a:ea typeface="Arial"/>
              </a:rPr>
              <a:t>rjetet ushqimore dhe konkurren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685800" y="191592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Shpërbërësit ushqehen me mbetje të bimëve dhe kafshëve, me gjallesa të vdek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Ata ushqehen me të gjitha nivelet e një rrjete ushqimore, por janë konsumatorë të parë, sepse ata konsumojnë gjithashtu materialin bim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3048480" y="689040"/>
            <a:ext cx="30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4000" spc="-1" strike="noStrike">
                <a:solidFill>
                  <a:srgbClr val="000000"/>
                </a:solidFill>
                <a:latin typeface="Arial"/>
                <a:ea typeface="Arial"/>
              </a:rPr>
              <a:t>Shpërbërës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6"/>
          <p:cNvSpPr/>
          <p:nvPr/>
        </p:nvSpPr>
        <p:spPr>
          <a:xfrm>
            <a:off x="645840" y="689040"/>
            <a:ext cx="785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4000" spc="-1" strike="noStrike">
                <a:solidFill>
                  <a:srgbClr val="000000"/>
                </a:solidFill>
                <a:latin typeface="Arial"/>
                <a:ea typeface="Arial"/>
              </a:rPr>
              <a:t>Cilat kafshë janë në konkurrencë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1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56908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755640" y="1703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Gjallesat në një nivel ndikohen nga ndryshimet në popullatën e gjallesave të niveleve të tj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Pastrimi i bimëve nga tokat bujqësore mund të ndikojë në konsumatorët e parë, të cilët varen nga bimët që largo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Numri i grabitqarëve mund të bjerë, nëse ata nuk mund të gjejnë p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2271600" y="689040"/>
            <a:ext cx="432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4000" spc="-1" strike="noStrike">
                <a:solidFill>
                  <a:srgbClr val="000000"/>
                </a:solidFill>
                <a:latin typeface="Arial"/>
                <a:ea typeface="Arial"/>
              </a:rPr>
              <a:t>Ndryshime në rrj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755640" y="170316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Llojet e bimëve dhe të kafshëve futen në habitate të reja qëllimisht ose në mënyrë aksident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Llojet e reja konkurrojnë me llojet vend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800" spc="-1" strike="noStrike">
                <a:solidFill>
                  <a:srgbClr val="000000"/>
                </a:solidFill>
                <a:latin typeface="Arial"/>
                <a:ea typeface="Arial"/>
              </a:rPr>
              <a:t>Llojet e reja mund të jenë më të suksesshme sesa llojet vendase, sepse konsumatorët më të lartë nuk ushqehen me to ose sepse mund të kenë përshtatje që i ndihmojnë ata të mbijetojnë.</a:t>
            </a:r>
            <a:br>
              <a:rPr sz="2800"/>
            </a:br>
            <a:r>
              <a:rPr b="0" lang="sq-A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2540160" y="689040"/>
            <a:ext cx="407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4000" spc="-1" strike="noStrike">
                <a:solidFill>
                  <a:srgbClr val="000000"/>
                </a:solidFill>
                <a:latin typeface="Arial"/>
                <a:ea typeface="Arial"/>
              </a:rPr>
              <a:t>Pushtuesit e hua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7488000" cy="18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  <a:ea typeface="Arial"/>
              </a:rPr>
              <a:t>Pleshtat e ujit dhe larvat e mushkonjave konkurrojnë për protozo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  <a:ea typeface="Arial"/>
              </a:rPr>
              <a:t>Shushunjat dhe kërmijtë e pellgjeve konkurrojnë për al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  <a:ea typeface="Arial"/>
              </a:rPr>
              <a:t>Larvat e protozoarëve dhe mushkonjave konkurrojnë për fitoplankt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1800" spc="-1" strike="noStrike">
                <a:solidFill>
                  <a:srgbClr val="000000"/>
                </a:solidFill>
                <a:latin typeface="Arial"/>
                <a:ea typeface="Arial"/>
              </a:rPr>
              <a:t>Shushunjat dhe pleshtat e ujit janë në konkurrencë. </a:t>
            </a:r>
            <a:r>
              <a:rPr b="0" lang="sq-A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q-A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Group 35"/>
          <p:cNvGrpSpPr/>
          <p:nvPr/>
        </p:nvGrpSpPr>
        <p:grpSpPr>
          <a:xfrm>
            <a:off x="1552680" y="3716280"/>
            <a:ext cx="5971680" cy="2570040"/>
            <a:chOff x="1552680" y="3716280"/>
            <a:chExt cx="5971680" cy="2570040"/>
          </a:xfrm>
        </p:grpSpPr>
        <p:sp>
          <p:nvSpPr>
            <p:cNvPr id="557" name="Rectangle 4"/>
            <p:cNvSpPr/>
            <p:nvPr/>
          </p:nvSpPr>
          <p:spPr>
            <a:xfrm>
              <a:off x="1552680" y="4359600"/>
              <a:ext cx="1670400" cy="3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hushun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5"/>
            <p:cNvSpPr/>
            <p:nvPr/>
          </p:nvSpPr>
          <p:spPr>
            <a:xfrm>
              <a:off x="1745280" y="5002920"/>
              <a:ext cx="1670400" cy="3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ërminj pellg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3417120" y="4357800"/>
              <a:ext cx="1670400" cy="3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eshta uj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3866040" y="5001120"/>
              <a:ext cx="1670400" cy="3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tozoar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2324520" y="5966280"/>
              <a:ext cx="1670760" cy="3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g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5345640" y="5966280"/>
              <a:ext cx="1670400" cy="3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toplank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10"/>
            <p:cNvSpPr/>
            <p:nvPr/>
          </p:nvSpPr>
          <p:spPr>
            <a:xfrm>
              <a:off x="3609720" y="3716280"/>
              <a:ext cx="1670400" cy="32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sh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11"/>
            <p:cNvSpPr/>
            <p:nvPr/>
          </p:nvSpPr>
          <p:spPr>
            <a:xfrm>
              <a:off x="5281920" y="4357800"/>
              <a:ext cx="2242440" cy="32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rva muhkonja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2"/>
            <p:cNvSpPr/>
            <p:nvPr/>
          </p:nvSpPr>
          <p:spPr>
            <a:xfrm flipH="1" flipV="1">
              <a:off x="2581200" y="5322600"/>
              <a:ext cx="642960" cy="64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13"/>
            <p:cNvSpPr/>
            <p:nvPr/>
          </p:nvSpPr>
          <p:spPr>
            <a:xfrm flipH="1" flipV="1">
              <a:off x="4958640" y="5322600"/>
              <a:ext cx="963360" cy="64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14"/>
            <p:cNvSpPr/>
            <p:nvPr/>
          </p:nvSpPr>
          <p:spPr>
            <a:xfrm flipH="1" flipV="1">
              <a:off x="6245280" y="4679640"/>
              <a:ext cx="256320" cy="128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15"/>
            <p:cNvSpPr/>
            <p:nvPr/>
          </p:nvSpPr>
          <p:spPr>
            <a:xfrm flipV="1">
              <a:off x="4379400" y="4664160"/>
              <a:ext cx="1080" cy="3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16"/>
            <p:cNvSpPr/>
            <p:nvPr/>
          </p:nvSpPr>
          <p:spPr>
            <a:xfrm flipV="1">
              <a:off x="4573440" y="4679280"/>
              <a:ext cx="1092240" cy="32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17"/>
            <p:cNvSpPr/>
            <p:nvPr/>
          </p:nvSpPr>
          <p:spPr>
            <a:xfrm flipV="1">
              <a:off x="2517480" y="4679280"/>
              <a:ext cx="144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18"/>
            <p:cNvSpPr/>
            <p:nvPr/>
          </p:nvSpPr>
          <p:spPr>
            <a:xfrm flipV="1">
              <a:off x="2517480" y="3908160"/>
              <a:ext cx="1092240" cy="44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19"/>
            <p:cNvSpPr/>
            <p:nvPr/>
          </p:nvSpPr>
          <p:spPr>
            <a:xfrm flipV="1">
              <a:off x="4380480" y="4021920"/>
              <a:ext cx="108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20"/>
            <p:cNvSpPr/>
            <p:nvPr/>
          </p:nvSpPr>
          <p:spPr>
            <a:xfrm flipH="1" flipV="1">
              <a:off x="5280120" y="3908520"/>
              <a:ext cx="77184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Rectangle 28"/>
          <p:cNvSpPr/>
          <p:nvPr/>
        </p:nvSpPr>
        <p:spPr>
          <a:xfrm>
            <a:off x="7812000" y="1844640"/>
            <a:ext cx="93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 vërtet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29"/>
          <p:cNvSpPr/>
          <p:nvPr/>
        </p:nvSpPr>
        <p:spPr>
          <a:xfrm>
            <a:off x="7812000" y="2205000"/>
            <a:ext cx="93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 gabu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3"/>
          <p:cNvSpPr/>
          <p:nvPr/>
        </p:nvSpPr>
        <p:spPr>
          <a:xfrm>
            <a:off x="1905480" y="689040"/>
            <a:ext cx="534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4000" spc="-1" strike="noStrike">
                <a:solidFill>
                  <a:srgbClr val="000000"/>
                </a:solidFill>
                <a:latin typeface="Arial"/>
                <a:ea typeface="Arial"/>
              </a:rPr>
              <a:t>E vërtetë apo e gabu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34"/>
          <p:cNvSpPr/>
          <p:nvPr/>
        </p:nvSpPr>
        <p:spPr>
          <a:xfrm>
            <a:off x="439560" y="1413000"/>
            <a:ext cx="86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000" spc="-1" strike="noStrike">
                <a:solidFill>
                  <a:srgbClr val="000000"/>
                </a:solidFill>
                <a:latin typeface="Arial"/>
                <a:ea typeface="Arial"/>
              </a:rPr>
              <a:t>A janë këto thënie të lidhura me rrjetin ushqimor të vërteta apo të gabuar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28"/>
          <p:cNvSpPr/>
          <p:nvPr/>
        </p:nvSpPr>
        <p:spPr>
          <a:xfrm>
            <a:off x="7812000" y="2852640"/>
            <a:ext cx="93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 vërtet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9"/>
          <p:cNvSpPr/>
          <p:nvPr/>
        </p:nvSpPr>
        <p:spPr>
          <a:xfrm>
            <a:off x="7812000" y="3327480"/>
            <a:ext cx="93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 gabu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22:01:59Z</dcterms:created>
  <dc:creator/>
  <dc:description/>
  <dc:language>en-US</dc:language>
  <cp:lastModifiedBy/>
  <dcterms:modified xsi:type="dcterms:W3CDTF">2018-03-29T14:21:16Z</dcterms:modified>
  <cp:revision>1</cp:revision>
  <dc:subject/>
  <dc:title/>
</cp:coreProperties>
</file>