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ftr" idx="38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68B3-46DA-4CB5-9CC5-36BA9957A0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846-1843-44BF-B458-EBDC846026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4C1-089F-4DF4-9DBC-A976E5C45C0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2A48-6C45-420B-80BB-06E1243DD06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FFAD-E9CF-4AE0-86AF-9F4D6957EE8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B38-2C26-4F00-8232-148367C3895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2DFD8-9C66-49E0-AD67-30BE4082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6B450-B343-449C-936A-CE5117AD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816F-607A-4372-8202-7C1A85F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EB9B8-1F95-42DD-BB50-BD51731F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1E611-BC6B-4EA1-A5C6-527345B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1380B-2A32-466F-BA8D-AB7710E2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70F2B-437B-4407-BA64-87883ECB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F925-E7A2-495E-B987-02D05CF8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D92A-145F-40BD-A335-D05789E4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29F99-3F76-4C8C-BFDD-A66A324B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9BCE5-E780-4F13-8E34-70DD8F28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FB2D8-1277-4451-B4F7-730E84B5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EF3C5-F16C-4CC5-8D16-D63EA1AB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5AFA9-AB2C-41BD-AC22-B75DE5A7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629EF-78BC-4F6D-8491-ADAD9777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EDAC5-5B01-4D45-8606-8B28117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B52D4-E9B3-4F71-AEAD-1F92EE7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8DC0D-E06A-4D49-9457-E0005D9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86E6C-4EED-4FA3-A4FF-72D914F5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053C1-A5C7-49E1-B7A8-92A87361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EC2C9-6ED7-4E6E-BE87-B6884805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CE486-591D-44BC-AFF3-004DEB15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A9463-DCE1-4931-BDF8-DCA96F5A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F1F6F-D7BC-425D-A9D4-7FE4A612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B4AD3-84F1-4348-A741-920F4876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63727-DE48-48D0-868D-23B75018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5A240-9CDE-4313-9BF7-836D4F2D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5CC3-2282-4169-9A22-FBF7736B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96DC2-1084-4A0F-BF95-15B5E6A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B9761-741B-4BCC-A3A1-1666253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531-50D2-4CB8-962A-65F5CABB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4232D-3903-4CC1-B95F-0D606952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C933B-CCE4-4C54-A7CC-02112634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934DC-6DF8-4BD6-A2BF-0F54ECE1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5EF58-E1B6-4677-BBF8-AB33D9C8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85C9F-6D1C-4EDE-B78F-4107430D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FF4D9-5D6E-4C2C-A329-B3DC7C90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EBABA-55E4-4D32-B9B1-341D0D4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726F5-381C-4878-BF3D-9D8A62DE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CECE-8CA4-495F-8D79-0D316FD9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9E6A-734B-471A-879A-601F2E19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B3F-0ED4-4CFA-8299-0F5AE529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F9143-4964-49ED-A98A-0FE7944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DE1EB-292A-498D-B274-7B4F2D9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5C40-679F-4128-B192-E87952A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984EB-C122-4B90-B6C1-9025B34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2401C-B526-4106-B9BF-5C061A5E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C5344-134F-40F2-82DC-7FAC4C57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0B90F-CEF6-4D7D-B1BD-C7365A9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6752E-0DF5-401B-8692-DF411401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272D0-58DE-48C8-B308-9576CB52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24F00-CDD9-40B2-8856-A936DC4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3D6-22EF-46FB-9DEE-4A06F98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A95A6-D5A9-4927-B9B3-07F76BF0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FCDE19-5CDD-4FDB-A0D2-A1001077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B9897-71E0-46A2-B7D5-77E4654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77C47-B9B4-4886-B4F7-9E97CB6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7A524-830E-4C81-B553-9C07734C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4BF65-3C21-43EB-9AC8-2F526562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33607-82D7-4300-ABF8-392E875F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7A2-FACC-4BE7-A27F-BA547787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1A4-EB18-497B-B872-939BD71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560-B62A-46C0-BD69-4FC41B60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A325-CC2C-4233-A0C5-179EA9A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5DF-6FE3-42FA-A2B8-F08D9789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A6E-1D81-4B4E-8B88-3CAD6386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04E-3FEF-431B-A52B-E76A68F3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AFA-2BD0-47A0-A2DD-2C2E50D6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5365-F326-4A9B-8D62-65899B64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8C43-F99F-4560-8CEE-B22291FD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ED63-6A33-4875-B1C9-3B38B3D0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E888-68CB-49E0-A403-362C0F13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1D7D-7788-48DE-81F0-47CF002B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0AA7-0B37-41CF-B0B4-1642DCF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0ED7-E994-4FE5-9205-6BDE919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25BB-097E-4D2A-A0C7-E1A5E3D6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C0CE-3DC4-4866-A9CE-8DAB7F5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F2FC-1961-4421-AF2D-81F647FB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6222-87C5-4EDF-A11A-568A45D7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CDE4-479A-49CE-9FCB-37605B1A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FA9-1D45-4DBA-B048-771254FA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9CC0-5C47-4D62-9C1C-1B4EF17F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760A-BFDD-4B83-8905-BD2C2190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F3634-988B-4859-9A21-DF1A1EF0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E152-AC9A-4AD0-84B0-0238E1CC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64F4-62B5-4DCA-B7D7-13EF6BF6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DB04-D4EE-4E9B-A5AB-EC767367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5354D-7EA6-4338-9526-9E1A7F6A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EB256-AA0E-4F87-BF88-48A2E8F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478DF-E50B-49BC-955A-88C08B8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1F47-1A45-4335-996E-B23BAAE5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C2D6-7847-44A5-900A-458CDBE8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CF87-7CA2-4376-88DF-9FCB6A7E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B94A-AA8F-4A6F-B97F-3B320CD2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EA1A-1ECA-4250-A885-DE5552D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F3A4-F475-444B-8DF7-625AB95D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1C7F0-3751-4794-9F7F-322012A5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67F6-51ED-457E-B220-F7E403C0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EF5FC-DD85-466B-88FF-17FAAAC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26848-5CB0-412B-9B64-E7696372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2FCB1-1159-4C29-B32D-41B76EDA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F2A25-898D-4A42-B75E-43D47F77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941E8-0D70-46C7-BEF0-0655AAD8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AA61E-740E-4696-A637-152A1735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715AA-8429-4F65-8DB9-B38CB440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D16DA-7F19-47E5-9EB5-7E42975E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2EAC4-A043-48E7-8C31-1C19C282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3B6C8-EBFC-4EBC-9C5F-9335007D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3A8B6-C1A7-436E-AA5A-733C49C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7FCE3-1D82-4513-9B48-1866EDD3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FB27A-C5BD-4DF0-A792-8284C326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3548-8CB3-4760-98F3-303968D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E3CA2-23C2-4599-B168-F0017B5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92AFA-24F6-41B8-8F4C-5755B6E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8A24B-3917-4B2B-A66F-7A4C944D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B0E3-9AC0-4184-85A2-A1EAF3AC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74706-A45B-4A00-A879-70E47FDD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B3D9-79D0-4F93-8A4E-8058FD88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1338-6760-4BAD-85D6-D46D562A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E5E1-C046-410B-98FA-172C6089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593E-F75F-4753-A3FF-0B6F9921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BB6F-9C00-4C95-A54A-3FB6A394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06EA7-75C8-4495-9EEB-249C6F44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B16F-963B-4156-B894-9C3CECB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D2001-E707-4023-B777-11BC1B3C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BFAF1-D0FA-4402-A0A7-72CDF95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34D2B-423D-40F2-AE31-5C88FFA7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4D76D-BAE6-49F5-89C6-DF4CA34F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D90B7-50FF-4DFA-8544-1691B8DB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DA368-99B9-40DF-A7B2-E313A385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9BC5-C34A-4AB2-BE20-B20F5FD4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D04F3-A5BB-4971-8FAC-94F8B5E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DB8C3-5FDE-4C4B-ABE7-BCF56D5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BFBA2-B596-4494-81FC-CEA4419E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3EB3-F905-4027-A46B-1DA41256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03F4-0106-4B0A-8AF3-8ADBE3C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FD03D-3F89-4C27-B009-6142442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628E-BC46-400D-86A1-43D2975F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F8158-F567-47F0-927A-F8024D19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9D49-17B9-4556-BF31-0D96CAEA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97FC2-ED73-46C8-9C6C-298B33CD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9C297-5CF7-4E96-B8D1-FFD27985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0D9A3-2F9E-440C-ACE7-180D167D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8623-19A0-4B3E-AF54-4EA09A9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BBC-E645-4B7E-987A-EBBD149052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8403-3863-49CC-8D39-33A65B78A19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992-1601-4522-9A91-D005A35915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E6E1-5945-4A9A-98DF-2DEED0C610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1C9B-79E1-445F-B6B5-D44BD43C31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282-EE0A-488B-BECE-F6DF73E298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27CD-2BAC-410C-8EB5-BD1E3185FE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7450-E824-40CF-8B9A-7C36D607B6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EFAC-4068-431B-9819-544C644C20C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5F62-2865-425A-B11F-CABE494EE43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573-A658-4CFA-A6B5-A1B50190B6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7030-AB5F-41D0-AAAA-AF3448D9B5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9"/>
          <p:cNvSpPr/>
          <p:nvPr/>
        </p:nvSpPr>
        <p:spPr>
          <a:xfrm>
            <a:off x="720720" y="6922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400" spc="-1" strike="noStrike">
                <a:solidFill>
                  <a:srgbClr val="000000"/>
                </a:solidFill>
                <a:latin typeface="Arial"/>
                <a:ea typeface="Arial"/>
              </a:rPr>
              <a:t>Kryqëzimi i bimë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468360" y="2421000"/>
            <a:ext cx="324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Bëj një skemë merimangë për të treguar atë që di për kryqëzimin përzgjedh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Content Placeholder 65580"/>
          <p:cNvGrpSpPr/>
          <p:nvPr/>
        </p:nvGrpSpPr>
        <p:grpSpPr>
          <a:xfrm>
            <a:off x="2133720" y="1085760"/>
            <a:ext cx="7842600" cy="5398920"/>
            <a:chOff x="2133720" y="1085760"/>
            <a:chExt cx="7842600" cy="5398920"/>
          </a:xfrm>
        </p:grpSpPr>
        <p:sp>
          <p:nvSpPr>
            <p:cNvPr id="553" name="_s1028"/>
            <p:cNvSpPr/>
            <p:nvPr/>
          </p:nvSpPr>
          <p:spPr>
            <a:xfrm flipH="1" flipV="1">
              <a:off x="4165200" y="3110040"/>
              <a:ext cx="9471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_s1029"/>
            <p:cNvSpPr/>
            <p:nvPr/>
          </p:nvSpPr>
          <p:spPr>
            <a:xfrm>
              <a:off x="2133720" y="2099880"/>
              <a:ext cx="2179440" cy="135000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_s1030"/>
            <p:cNvSpPr/>
            <p:nvPr/>
          </p:nvSpPr>
          <p:spPr>
            <a:xfrm flipH="1">
              <a:off x="4165200" y="4122360"/>
              <a:ext cx="950040" cy="33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_s1031"/>
            <p:cNvSpPr/>
            <p:nvPr/>
          </p:nvSpPr>
          <p:spPr>
            <a:xfrm>
              <a:off x="2136600" y="4124160"/>
              <a:ext cx="2179440" cy="135000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_s1032"/>
            <p:cNvSpPr/>
            <p:nvPr/>
          </p:nvSpPr>
          <p:spPr>
            <a:xfrm>
              <a:off x="6053400" y="4456080"/>
              <a:ext cx="2880" cy="67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_s1033"/>
            <p:cNvSpPr/>
            <p:nvPr/>
          </p:nvSpPr>
          <p:spPr>
            <a:xfrm>
              <a:off x="4968000" y="5134680"/>
              <a:ext cx="2180160" cy="135000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_s1034"/>
            <p:cNvSpPr/>
            <p:nvPr/>
          </p:nvSpPr>
          <p:spPr>
            <a:xfrm>
              <a:off x="6994080" y="4120200"/>
              <a:ext cx="9471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_s1035"/>
            <p:cNvSpPr/>
            <p:nvPr/>
          </p:nvSpPr>
          <p:spPr>
            <a:xfrm>
              <a:off x="7796160" y="4122360"/>
              <a:ext cx="2180160" cy="135000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_s1036"/>
            <p:cNvSpPr/>
            <p:nvPr/>
          </p:nvSpPr>
          <p:spPr>
            <a:xfrm flipV="1">
              <a:off x="6994080" y="3109680"/>
              <a:ext cx="947160" cy="33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_s1037"/>
            <p:cNvSpPr/>
            <p:nvPr/>
          </p:nvSpPr>
          <p:spPr>
            <a:xfrm>
              <a:off x="7796160" y="2097720"/>
              <a:ext cx="2180160" cy="135036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_s1038"/>
            <p:cNvSpPr/>
            <p:nvPr/>
          </p:nvSpPr>
          <p:spPr>
            <a:xfrm flipV="1">
              <a:off x="6053400" y="2433960"/>
              <a:ext cx="0" cy="67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_s1039"/>
            <p:cNvSpPr/>
            <p:nvPr/>
          </p:nvSpPr>
          <p:spPr>
            <a:xfrm>
              <a:off x="4964760" y="1085760"/>
              <a:ext cx="2179440" cy="135000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_s1040"/>
            <p:cNvSpPr/>
            <p:nvPr/>
          </p:nvSpPr>
          <p:spPr>
            <a:xfrm>
              <a:off x="4964760" y="3111840"/>
              <a:ext cx="2179440" cy="1350360"/>
            </a:xfrm>
            <a:prstGeom prst="ellipse">
              <a:avLst/>
            </a:prstGeom>
            <a:solidFill>
              <a:srgbClr val="028cd0">
                <a:alpha val="20000"/>
              </a:srgbClr>
            </a:solidFill>
            <a:ln w="38160">
              <a:solidFill>
                <a:srgbClr val="028c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yqëzim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ërzgjedhë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Box 1"/>
          <p:cNvSpPr/>
          <p:nvPr/>
        </p:nvSpPr>
        <p:spPr>
          <a:xfrm>
            <a:off x="5250960" y="119160"/>
            <a:ext cx="37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4.1 Gjenet dhe gjenet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4.3 Kryqëzimi përzgjedhës i bimë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5" descr="&#13;09A.04.01.jpg                                                  0001C1BD_x000c_Studio Files                   BCCA38C6:"/>
          <p:cNvPicPr/>
          <p:nvPr/>
        </p:nvPicPr>
        <p:blipFill>
          <a:blip r:embed="rId1"/>
          <a:stretch/>
        </p:blipFill>
        <p:spPr>
          <a:xfrm>
            <a:off x="1116000" y="2657520"/>
            <a:ext cx="3608280" cy="373068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26"/>
          <p:cNvSpPr/>
          <p:nvPr/>
        </p:nvSpPr>
        <p:spPr>
          <a:xfrm>
            <a:off x="4952880" y="3048120"/>
            <a:ext cx="388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Çdo farë trashëgon kompletin e vet individual të gjeneve nga secili prind, kështu që të gjitha mund të jenë të ndrysh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1476360" y="69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Kalimi në gj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457200" y="148428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Në pllenim, kromozomet në gametet mashkullore dhe femërore bashkohen në të njëjtën bërtham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5508720" y="1773360"/>
            <a:ext cx="33811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pecialistët e kryqëzimit të bimëve i zgjedhin bimët me tiparet e dëshiruesh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Ata vendosin pjalmin e një bimë në krezën e një bime tjetë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22360" y="83664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Kryqëzimi i bimë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" descr="C:\Users\Sarah\Dropbox\work\CIE Science Teachers CD\05. Artwork\Stage 9\Sourced\camb_tcd_l9_bio_ch03_PPT1_1.jpg"/>
          <p:cNvPicPr/>
          <p:nvPr/>
        </p:nvPicPr>
        <p:blipFill>
          <a:blip r:embed="rId1"/>
          <a:stretch/>
        </p:blipFill>
        <p:spPr>
          <a:xfrm>
            <a:off x="404640" y="1989000"/>
            <a:ext cx="5088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1476360" y="6922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Një gosti fasul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539640" y="46530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hih fasulet që tregohen. Pse mund të thuash se ka tipa të ndryshme? A mund të matësh ndryshimin për çdo tip fasulej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3"/>
          <p:cNvSpPr/>
          <p:nvPr/>
        </p:nvSpPr>
        <p:spPr>
          <a:xfrm>
            <a:off x="5703840" y="19890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A janë të gjitha këto fara të njëjtit lloj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6" descr="C:\Users\Sarah\Dropbox\work\CIE Science Teachers CD\05. Artwork\Stage 9\Sourced\camb_tcd_l9_bio_ch03_PPT1_2.jpg"/>
          <p:cNvPicPr/>
          <p:nvPr/>
        </p:nvPicPr>
        <p:blipFill>
          <a:blip r:embed="rId1"/>
          <a:srcRect l="0" t="33524" r="25170" b="0"/>
          <a:stretch/>
        </p:blipFill>
        <p:spPr>
          <a:xfrm>
            <a:off x="611280" y="1644480"/>
            <a:ext cx="489744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8"/>
          <p:cNvSpPr/>
          <p:nvPr/>
        </p:nvSpPr>
        <p:spPr>
          <a:xfrm>
            <a:off x="1052640" y="692280"/>
            <a:ext cx="71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Sa di tan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9"/>
          <p:cNvSpPr/>
          <p:nvPr/>
        </p:nvSpPr>
        <p:spPr>
          <a:xfrm>
            <a:off x="447840" y="1557360"/>
            <a:ext cx="784836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ërdor shkronjat e fjalës GJENE për të filluar fjali që tregojnë atë që ti di për kryqëzimin e bimë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GJ 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 ………………………………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 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 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19:51Z</dcterms:created>
  <dc:creator/>
  <dc:description/>
  <dc:language>en-US</dc:language>
  <cp:lastModifiedBy/>
  <dcterms:modified xsi:type="dcterms:W3CDTF">2018-03-29T11:53:13Z</dcterms:modified>
  <cp:revision>1</cp:revision>
  <dc:subject/>
  <dc:title/>
</cp:coreProperties>
</file>