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0" y="0"/>
            <a:ext cx="6858000" cy="9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ftr" idx="41"/>
          </p:nvPr>
        </p:nvSpPr>
        <p:spPr>
          <a:xfrm>
            <a:off x="-36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 type="sldNum" idx="42"/>
          </p:nvPr>
        </p:nvSpPr>
        <p:spPr>
          <a:xfrm>
            <a:off x="388584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7101-3F89-4A89-B14B-671F4A6B32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9B1F-DF97-49C9-A412-D477ED1988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CF45-D68A-4FCE-AB40-8F1E483989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509F-C5AB-4079-990D-721DDC56C0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04FB-AFA5-4C5C-B9F8-F7A8F97300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7D18-DD10-4487-8AEA-9C343B1BD14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9539-DB11-4126-A8A4-D772B53A33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123E-A645-4313-B355-C72CB9FEF8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EFE3-8672-4994-9A37-B1463EE94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8AA1-E9D4-40B8-9036-0AED33D8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0EFACF-3955-49B5-98EE-D7B77E9A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989E5E-43C2-4C99-9E8B-9F9D5150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0F4B6-06A3-4DF3-BE67-3FD41208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F83A7D-634D-4861-8662-2F210616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DFD8E4-0B50-4C97-AE40-62E45918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9C8079-0BEA-41D1-A8AF-E3FB0981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F6211B-1224-40F0-B951-3996F007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55366E-5758-400B-B4D5-F5BA6B60A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D79B99-9E18-4B59-9110-D72FB2570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3F5783-973F-49EE-B87E-744537084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CCD0-F20D-498C-AFAE-F96416A11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67D4C6-FD68-4E40-922C-6AA12432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A5DA7A-E524-4E72-9BCA-68F4F229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C01C2F-9D6B-4C52-A301-4EF2516C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58ABC0-10B6-4E56-A7F3-83A37444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5A0FEA-0615-4E83-B863-CDC42507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54E809-698B-4BAE-A747-6E060992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A23AB3-8F44-41C5-AE41-9AF7FE1D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0C01C4-2F3B-4B43-A29F-08B391F9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8C883E-1ED4-4EE4-B55A-52DD203F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CA3323-5165-4224-AF75-4B7526B7B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2C64-CFEF-4B37-B30F-3357610A9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3D99CC-EE58-42E4-AD17-AD3FFA0D5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5F662F-FABD-4C87-AB08-650F7D632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2B312D-C15F-4B84-B147-0A9DE645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DECAE-0685-43B3-BB48-54E036D6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DDCE3-ACAD-4D91-8055-533C1039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D3A37-10B1-48C6-9E17-AFE664FB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A77059-CCB6-478A-B832-DB955F3A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4EAEF-9E1E-40C0-AB2F-8A486062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67DC6E-8A20-4C87-87E2-DAACA102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3DA30-375E-461C-93EA-7917AC08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98BA-F7D3-475E-AE32-E150C6FA1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EF2E31-FAFD-4DA2-B892-70839F55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9E591-8A6C-407E-B92F-8EFABF6CC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436575-B0F3-4564-91C2-F1F5BA871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CC649E-3F3C-41E1-8106-EDC522824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103987-45A4-45AF-B15F-5BDAD3D3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B1AA3D-A9C1-456E-9FE0-B8BB2100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92E9A2-17D0-4BB8-8149-A6680904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747424-E6DE-45F3-96A4-17E328EE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C291BF-717C-4EE2-81F0-76858A04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C7F91D-5808-4545-B374-FFFEB98D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3532-E9B6-4F6E-B830-BC125B62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3295B5-1DB9-4617-AB20-62D8976B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14C02D-478A-459D-AED8-D8BBCEE7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B80F24-DC1A-4B62-840B-A7B3FE97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1A57FA-C4D8-4C95-BB1F-558D244C8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143CF5-2E12-4B6A-8883-A95835FCB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3098D5-60C8-43A6-B92C-E9058821A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4F1B82-D7C5-481D-8343-40C3FD44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F44F33-5195-4806-92F6-EB707AC4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4E9AD2-A977-40BA-836E-281BDAD3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C06F91-135E-41AF-A3A3-381A2401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824B-6AFB-48B2-AAA6-63951C40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368C32-1AB6-48FB-A687-C2F6F0AC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427F12-FAC7-4AE8-A9C6-94AED169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CA3B51-5A18-482C-849E-DB3B7B7B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C5820F-505A-43F2-B7C7-77265A83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FBD094-AB4D-469F-874F-F9C4B2E1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056E81-B91B-4C14-A32B-91764E245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B599A9-B3E6-4EC0-AFBD-95A6B6684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A923-2071-4702-BC16-46642927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C9A6-5FCC-4B49-82ED-4BE56252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2D14-F688-455C-9EBB-3B0E5598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F1D9-5F30-45A6-AE13-22331861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F774-B5B1-4A4A-A53B-CFC29B6A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355D-8E74-4751-9CEC-EBDAB8D4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646F-8C56-412C-816C-BB4B86F9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C0BF4-E585-418C-A220-1560D606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6F3F-3ACD-4546-9DFA-6CE0AF5D4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C1080-F309-41C1-AAD1-97149A3D1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6E181-FA86-4B08-A1C5-5A99D7868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4B49A-7D51-4574-A7D8-9864C100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2DEB8-BB8F-4E3A-88AC-A2A574F3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64703-5EE7-4F01-89D8-C916D9B2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06D43-4646-4A78-A763-5C7CD6FB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8CF7-0F18-4203-B63B-CC28859F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F5D25-9816-4160-8E82-BBFE55B9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907FF-8E28-40BC-8ED0-02E64A76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17512-A8D5-4DBA-8A89-F81CC63E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15EE8-9346-4326-AF76-A5A15E16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8CC05-747F-44CF-BE51-A6F58967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8AAB4-8F91-49CD-A353-92BAE4628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B834B-7EB0-4963-BB57-3C7F527B8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02517-6D8D-4880-A588-C0354A2E6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FAF22-A04F-46E2-9DD2-2F731D82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EE81B-77E2-4655-8E02-3B361F07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CBFD-6E0A-423E-8B79-04EE60BD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F160B-A5E6-472A-A4EE-7C80832B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BE1A6-2580-44CA-8908-1B72533F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756D6-64CC-4780-A1CC-BE4ACF00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BE4DB-B371-4F71-86B1-31AEF274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F991D-F8EF-4C2B-9BF4-1252782E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5810C-CFAA-4848-B3C5-7F7F79BB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44A70-83D3-41F5-B7AD-EE359BBF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F5700-6024-4FE8-A091-0389434F1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BF6AC-E6B4-427E-95F1-80D23086F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2A4EF-65A5-4828-8C96-87767EA58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C637-6F90-4EB7-B543-ECF7CF7E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7C96B-4833-41CA-AC85-4DC00B3F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DC751-B28D-41F7-8C8F-8D97F20D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7A785-A679-4665-9CC1-7F256272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9028B-A5E0-4983-AFA9-D08A0FEB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158E5-874F-440D-A46C-279DE7CC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52A5E-7BA1-4032-8724-AE81D9C9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0B678-A794-4DF4-9D48-8B24533B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5623F-AE8C-4610-BC12-8AC96E9A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D6312-5668-4ED2-8009-90B28664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BC24C-978C-46E8-B7F7-12DFCB57E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6C89-954B-4A35-A17E-7589C7AC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B0476-4B4E-45E8-82DA-1899A5B08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1E99C-7DD2-4648-B2D1-BEDAD58F4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5F5F0-202B-4996-A4C8-5F1D82AB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0E7D6-1BF8-4680-854C-39EF74D7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1C9D7-C8C4-4ACC-B40F-230F7C5F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DF967-0E9E-463C-809E-24AF415F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F9FFA-0447-49AD-B0B0-FB00F888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851FD-317C-4195-903E-24348294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C9981-4D51-4252-A857-E1381939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73C82-46D1-4AD0-BFDC-855BD27D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9F16-7D79-4758-BF39-3CEF94C1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51EDF-D3E1-4EAA-84C4-B6798BDD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7C196-6BA4-4B97-BEFC-2CDF37AA3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29E96-75E8-4203-B427-6D24D678A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78654-DCA1-42A8-803C-2162DAB15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F9A6B-A2E2-425B-8ABE-7C311859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7AF6C-5807-458C-A342-B421373E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E65D2-C116-4EBF-A782-43ACD210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A36F8-7345-4E14-BEBE-99F73130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EA9FE-BB2C-41F9-B5F3-297928EC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ED5C5-7A9B-4FEE-928C-9F866201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79CE-A8EA-4E85-B704-88732296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B010C-FD5E-4F82-932D-0BEE3701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F285F-1032-4342-B6F6-56AC6164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41DC9-B9D3-45E9-B6D4-B0196198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19EB7-755E-45F4-B005-E42D03670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0741A-EBA1-405F-BB23-EFB7CEBCB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AE623-C7A3-4610-BC36-3468FDD6A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85434-8003-41A4-B27B-3C158372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F2C6B-907E-4D38-9ED4-817C1EF3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EB9DD-3DF6-453F-9F9D-A85E9544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414D1-1062-42CE-AFA8-B2D9EC9F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33E8-1575-4E27-934D-E67AFE29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0479E-1339-417B-BB87-A73453A7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D698B-7BD2-4F4F-801C-31518F36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E21EB-DF9E-46A1-9BDB-D8C8A767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46905-A549-4B51-8877-1C466908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9F805-6246-45BA-977C-305B28DB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BA9BB-2C58-455B-A09D-10BC1316E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48653-8EBC-4E5B-A360-6DDFD7843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A574F9-F2BF-4322-B3F1-ADD46F815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4E7ED2-CE49-438D-99F8-BF7C1A7A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422512-4D04-4C59-B600-4544E882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800" y="62485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hëzues për tekstin mësimor “Fizika 9” – sipas origjinalit Science Stage 9 Physics for Cambridge Secondary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© Oxford University Press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© në gjuhën shqipe Shtëpia Botuese Ideart, 2024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A626-25B9-4DAD-9A66-2DD5503A6E47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Date Placeholder 3"/>
          <p:cNvSpPr/>
          <p:nvPr/>
        </p:nvSpPr>
        <p:spPr>
          <a:xfrm>
            <a:off x="0" y="6348240"/>
            <a:ext cx="91440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" descr=""/>
          <p:cNvPicPr/>
          <p:nvPr/>
        </p:nvPicPr>
        <p:blipFill>
          <a:blip r:embed="rId2"/>
          <a:stretch/>
        </p:blipFill>
        <p:spPr>
          <a:xfrm>
            <a:off x="685800" y="101520"/>
            <a:ext cx="1803240" cy="73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Date Placeholder 3"/>
          <p:cNvSpPr/>
          <p:nvPr/>
        </p:nvSpPr>
        <p:spPr>
          <a:xfrm>
            <a:off x="0" y="6348240"/>
            <a:ext cx="91440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Picture 1" descr=""/>
          <p:cNvPicPr/>
          <p:nvPr/>
        </p:nvPicPr>
        <p:blipFill>
          <a:blip r:embed="rId2"/>
          <a:stretch/>
        </p:blipFill>
        <p:spPr>
          <a:xfrm>
            <a:off x="685800" y="101520"/>
            <a:ext cx="1803240" cy="7365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685800" y="62485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057A-FFAF-4169-9A4C-B73F0544451D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Date Placeholder 3"/>
          <p:cNvSpPr/>
          <p:nvPr/>
        </p:nvSpPr>
        <p:spPr>
          <a:xfrm>
            <a:off x="0" y="6348240"/>
            <a:ext cx="91440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Picture 1" descr=""/>
          <p:cNvPicPr/>
          <p:nvPr/>
        </p:nvPicPr>
        <p:blipFill>
          <a:blip r:embed="rId2"/>
          <a:stretch/>
        </p:blipFill>
        <p:spPr>
          <a:xfrm>
            <a:off x="685800" y="101520"/>
            <a:ext cx="1803240" cy="73656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685800" y="62485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86139-8228-41EE-837C-2FFA0937E6DB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Date Placeholder 3"/>
          <p:cNvSpPr/>
          <p:nvPr/>
        </p:nvSpPr>
        <p:spPr>
          <a:xfrm>
            <a:off x="0" y="6348240"/>
            <a:ext cx="91440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Picture 1" descr=""/>
          <p:cNvPicPr/>
          <p:nvPr/>
        </p:nvPicPr>
        <p:blipFill>
          <a:blip r:embed="rId2"/>
          <a:stretch/>
        </p:blipFill>
        <p:spPr>
          <a:xfrm>
            <a:off x="685800" y="101520"/>
            <a:ext cx="1803240" cy="73656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685800" y="62485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C696-D558-41BB-B12E-35812ED234FC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Date Placeholder 3"/>
          <p:cNvSpPr/>
          <p:nvPr/>
        </p:nvSpPr>
        <p:spPr>
          <a:xfrm>
            <a:off x="0" y="6348240"/>
            <a:ext cx="91440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Picture 1" descr=""/>
          <p:cNvPicPr/>
          <p:nvPr/>
        </p:nvPicPr>
        <p:blipFill>
          <a:blip r:embed="rId2"/>
          <a:stretch/>
        </p:blipFill>
        <p:spPr>
          <a:xfrm>
            <a:off x="685800" y="101520"/>
            <a:ext cx="1803240" cy="73656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7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8"/>
          </p:nvPr>
        </p:nvSpPr>
        <p:spPr>
          <a:xfrm>
            <a:off x="685800" y="62485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516C-726F-4D18-984D-391513F6070C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348240"/>
            <a:ext cx="91440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1" descr=""/>
          <p:cNvPicPr/>
          <p:nvPr/>
        </p:nvPicPr>
        <p:blipFill>
          <a:blip r:embed="rId2"/>
          <a:stretch/>
        </p:blipFill>
        <p:spPr>
          <a:xfrm>
            <a:off x="685800" y="101520"/>
            <a:ext cx="1803240" cy="736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685800" y="62485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360D-519D-4A4F-B582-0E9C8583C164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Date Placeholder 3"/>
          <p:cNvSpPr/>
          <p:nvPr/>
        </p:nvSpPr>
        <p:spPr>
          <a:xfrm>
            <a:off x="0" y="6348240"/>
            <a:ext cx="91440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" descr=""/>
          <p:cNvPicPr/>
          <p:nvPr/>
        </p:nvPicPr>
        <p:blipFill>
          <a:blip r:embed="rId2"/>
          <a:stretch/>
        </p:blipFill>
        <p:spPr>
          <a:xfrm>
            <a:off x="685800" y="101520"/>
            <a:ext cx="1803240" cy="736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685800" y="62485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8659-0696-427C-8DC0-9736D65718F9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0" y="6348240"/>
            <a:ext cx="91440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1" descr=""/>
          <p:cNvPicPr/>
          <p:nvPr/>
        </p:nvPicPr>
        <p:blipFill>
          <a:blip r:embed="rId2"/>
          <a:stretch/>
        </p:blipFill>
        <p:spPr>
          <a:xfrm>
            <a:off x="685800" y="101520"/>
            <a:ext cx="1803240" cy="7365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685800" y="62485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E4F7-34D3-45C2-A8ED-684206805B08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0" y="6348240"/>
            <a:ext cx="91440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1" descr=""/>
          <p:cNvPicPr/>
          <p:nvPr/>
        </p:nvPicPr>
        <p:blipFill>
          <a:blip r:embed="rId2"/>
          <a:stretch/>
        </p:blipFill>
        <p:spPr>
          <a:xfrm>
            <a:off x="685800" y="101520"/>
            <a:ext cx="1803240" cy="7365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685800" y="62485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4575-917B-420C-BA39-83960F57D491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3"/>
          <p:cNvSpPr/>
          <p:nvPr/>
        </p:nvSpPr>
        <p:spPr>
          <a:xfrm>
            <a:off x="0" y="6348240"/>
            <a:ext cx="91440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1" descr=""/>
          <p:cNvPicPr/>
          <p:nvPr/>
        </p:nvPicPr>
        <p:blipFill>
          <a:blip r:embed="rId2"/>
          <a:stretch/>
        </p:blipFill>
        <p:spPr>
          <a:xfrm>
            <a:off x="685800" y="101520"/>
            <a:ext cx="1803240" cy="73656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685800" y="62485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9C81-90E7-4C24-B506-54B752369FF9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Date Placeholder 3"/>
          <p:cNvSpPr/>
          <p:nvPr/>
        </p:nvSpPr>
        <p:spPr>
          <a:xfrm>
            <a:off x="0" y="6348240"/>
            <a:ext cx="91440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1" descr=""/>
          <p:cNvPicPr/>
          <p:nvPr/>
        </p:nvPicPr>
        <p:blipFill>
          <a:blip r:embed="rId2"/>
          <a:stretch/>
        </p:blipFill>
        <p:spPr>
          <a:xfrm>
            <a:off x="685800" y="101520"/>
            <a:ext cx="1803240" cy="7365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685800" y="62485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8113-9A5A-4126-8B16-351AC2ACB910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Date Placeholder 3"/>
          <p:cNvSpPr/>
          <p:nvPr/>
        </p:nvSpPr>
        <p:spPr>
          <a:xfrm>
            <a:off x="0" y="6348240"/>
            <a:ext cx="91440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Picture 1" descr=""/>
          <p:cNvPicPr/>
          <p:nvPr/>
        </p:nvPicPr>
        <p:blipFill>
          <a:blip r:embed="rId2"/>
          <a:stretch/>
        </p:blipFill>
        <p:spPr>
          <a:xfrm>
            <a:off x="685800" y="101520"/>
            <a:ext cx="1803240" cy="73656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685800" y="62485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08F8-B3AF-4E98-A2F0-6A46C9A55793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Date Placeholder 3"/>
          <p:cNvSpPr/>
          <p:nvPr/>
        </p:nvSpPr>
        <p:spPr>
          <a:xfrm>
            <a:off x="0" y="6348240"/>
            <a:ext cx="91440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" descr=""/>
          <p:cNvPicPr/>
          <p:nvPr/>
        </p:nvPicPr>
        <p:blipFill>
          <a:blip r:embed="rId2"/>
          <a:stretch/>
        </p:blipFill>
        <p:spPr>
          <a:xfrm>
            <a:off x="685800" y="101520"/>
            <a:ext cx="1803240" cy="7365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685800" y="62485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0426-1F92-4B2D-B31F-23193E7385C5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830160" y="1000080"/>
            <a:ext cx="731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ërcjellsit dhe jop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cjel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t termi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1066680" y="19051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684360" y="2708280"/>
            <a:ext cx="731520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kruani sa më shumë fjalë që mund të lidheni me nxehtësinë dhe temperaturë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mund t'i shpjegoni shokut/shoqes kuptimin e të gjitha fjalëve tuaj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Box 1"/>
          <p:cNvSpPr/>
          <p:nvPr/>
        </p:nvSpPr>
        <p:spPr>
          <a:xfrm>
            <a:off x="7288200" y="10620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3.2 Con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10"/>
          <p:cNvSpPr/>
          <p:nvPr/>
        </p:nvSpPr>
        <p:spPr>
          <a:xfrm>
            <a:off x="711360" y="5342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robat e ngrohta përbëhen nga izolues termik - ato nuk lejoj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që energjia termike të largohet shpej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11"/>
          <p:cNvSpPr/>
          <p:nvPr/>
        </p:nvSpPr>
        <p:spPr>
          <a:xfrm>
            <a:off x="1409760" y="6858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Ngadalësimi i 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cjellsh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AutoShape 14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1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Picture 2" descr="C:\Users\Sarah\Dropbox\work\CIE Science Teachers CD\05. Artwork\Stage 9\Sourced\camb_tcd_l9_phy_ch03_PPT1_1.jpg"/>
          <p:cNvPicPr/>
          <p:nvPr/>
        </p:nvPicPr>
        <p:blipFill>
          <a:blip r:embed="rId1"/>
          <a:stretch/>
        </p:blipFill>
        <p:spPr>
          <a:xfrm>
            <a:off x="2643120" y="2525760"/>
            <a:ext cx="392904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 Box 5"/>
          <p:cNvSpPr/>
          <p:nvPr/>
        </p:nvSpPr>
        <p:spPr>
          <a:xfrm>
            <a:off x="684360" y="4836960"/>
            <a:ext cx="8208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talet janë përcjellës të mirë termi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ergjia termike nga uji i nxehtë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ë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az-Cyrl-AZ" sz="2400" spc="-1" strike="noStrike">
                <a:solidFill>
                  <a:srgbClr val="000000"/>
                </a:solidFill>
                <a:latin typeface="Arial"/>
                <a:ea typeface="Arial"/>
              </a:rPr>
              <a:t>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e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lehtësisht përmes radiatorëve dhe tubave prej çeliku ose bakri, në dhomë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1409760" y="6858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ër</a:t>
            </a:r>
            <a:r>
              <a:rPr b="0" lang="az-Cyrl-A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ҫ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ë mirë termikë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Picture 5" descr="C:\Users\Sarah\Dropbox\work\CIE Science Teachers CD\05. Artwork\Stage 8\Sourced\camb_tcd_l8_ch5_PPT1_1.jpg"/>
          <p:cNvPicPr/>
          <p:nvPr/>
        </p:nvPicPr>
        <p:blipFill>
          <a:blip r:embed="rId1"/>
          <a:stretch/>
        </p:blipFill>
        <p:spPr>
          <a:xfrm>
            <a:off x="2266920" y="1582560"/>
            <a:ext cx="4608720" cy="30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3"/>
          <p:cNvSpPr/>
          <p:nvPr/>
        </p:nvSpPr>
        <p:spPr>
          <a:xfrm>
            <a:off x="900000" y="2708280"/>
            <a:ext cx="8096400" cy="20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671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voni disa eksperimente duke përdorur një film termokol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671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jeni materiale që janë përçues termikë dhe izolu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671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hikoni modelin e përcjellshmërisë së nxehtësisë nga objektet e nxeh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671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 ndryshon përcjellshmëria e nxehtësisë ndërsa objektet ftoh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6"/>
          <p:cNvSpPr/>
          <p:nvPr/>
        </p:nvSpPr>
        <p:spPr>
          <a:xfrm>
            <a:off x="971640" y="1052640"/>
            <a:ext cx="6978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hgim i 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ërçueshmërisë term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3"/>
          <p:cNvSpPr/>
          <p:nvPr/>
        </p:nvSpPr>
        <p:spPr>
          <a:xfrm>
            <a:off x="539640" y="4581360"/>
            <a:ext cx="784872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57120" indent="-35712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ërçuesit ndihen të ftohtë – energjia termike nga gishtat tuaj rrjedh lehtësisht përmes ty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7120" indent="-35712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mund të thoni se, cilat nga këto objekte janë përçues dhe cilat j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6"/>
          <p:cNvSpPr/>
          <p:nvPr/>
        </p:nvSpPr>
        <p:spPr>
          <a:xfrm>
            <a:off x="971640" y="822240"/>
            <a:ext cx="6324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nxehtë apo e ftoht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Picture 2" descr="C:\Users\Sarah\Dropbox\work\CIE Science Teachers CD\05. Artwork\Stage 9\Sourced\camb_tcd_l9_phy_ch03_PPT1_3.jpg"/>
          <p:cNvPicPr/>
          <p:nvPr/>
        </p:nvPicPr>
        <p:blipFill>
          <a:blip r:embed="rId1"/>
          <a:stretch/>
        </p:blipFill>
        <p:spPr>
          <a:xfrm>
            <a:off x="2416320" y="1484280"/>
            <a:ext cx="43164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3"/>
          <p:cNvSpPr/>
          <p:nvPr/>
        </p:nvSpPr>
        <p:spPr>
          <a:xfrm>
            <a:off x="539640" y="2060640"/>
            <a:ext cx="3571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"Nëse e mbështjell kanaçen me batanijen e ngrohtë, do të jetë mjaft e ngrohtë për ta pirë!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mund të shpjegoni pse Ani e ka gabi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6"/>
          <p:cNvSpPr/>
          <p:nvPr/>
        </p:nvSpPr>
        <p:spPr>
          <a:xfrm>
            <a:off x="1409760" y="6858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Një keqkupti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2" descr="C:\Users\Sarah\Dropbox\work\CIE Science Teachers CD\05. Artwork\Stage 9\Sourced\camb_tcd_l9_phy_ch03_PPT1_4.jpg"/>
          <p:cNvPicPr/>
          <p:nvPr/>
        </p:nvPicPr>
        <p:blipFill>
          <a:blip r:embed="rId1"/>
          <a:stretch/>
        </p:blipFill>
        <p:spPr>
          <a:xfrm>
            <a:off x="4500720" y="1844640"/>
            <a:ext cx="40320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3"/>
          <p:cNvSpPr/>
          <p:nvPr/>
        </p:nvSpPr>
        <p:spPr>
          <a:xfrm>
            <a:off x="950760" y="2100240"/>
            <a:ext cx="693432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kruani një pyetje në lidhje me përcjellshmërinë ose jopërcjellshmërinë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kruani përgjigjen në një fletë tjetë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ërdorni pyetjet dhe përgjigjet tuaja për një aktivitet të klasës me ‘listën e pyetjeve'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6"/>
          <p:cNvSpPr/>
          <p:nvPr/>
        </p:nvSpPr>
        <p:spPr>
          <a:xfrm>
            <a:off x="1187280" y="1125360"/>
            <a:ext cx="654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ikli i pyetje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1T15:07:40Z</dcterms:created>
  <dc:creator/>
  <dc:description/>
  <dc:language>en-US</dc:language>
  <cp:lastModifiedBy/>
  <dcterms:modified xsi:type="dcterms:W3CDTF">2024-08-08T12:37:00Z</dcterms:modified>
  <cp:revision>1</cp:revision>
  <dc:subject/>
  <dc:title/>
</cp:coreProperties>
</file>