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wmf" ContentType="image/x-wmf"/>
  <Override PartName="/ppt/media/image7.jpeg" ContentType="image/jpeg"/>
  <Override PartName="/ppt/media/image8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</p:sldIdLst>
  <p:sldSz cx="9144000" cy="68580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0" y="0"/>
            <a:ext cx="6858000" cy="910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dt" idx="35"/>
          </p:nvPr>
        </p:nvSpPr>
        <p:spPr>
          <a:xfrm>
            <a:off x="388584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Img"/>
          </p:nvPr>
        </p:nvSpPr>
        <p:spPr>
          <a:xfrm>
            <a:off x="1152360" y="682560"/>
            <a:ext cx="4554720" cy="3416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body"/>
          </p:nvPr>
        </p:nvSpPr>
        <p:spPr>
          <a:xfrm>
            <a:off x="914400" y="4325760"/>
            <a:ext cx="5029200" cy="40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36"/>
          </p:nvPr>
        </p:nvSpPr>
        <p:spPr>
          <a:xfrm>
            <a:off x="-360" y="865188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 type="sldNum" idx="37"/>
          </p:nvPr>
        </p:nvSpPr>
        <p:spPr>
          <a:xfrm>
            <a:off x="3885840" y="865188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28E3A-EE83-4256-B41D-1D544D22D71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Rectangle 7"/>
          <p:cNvSpPr/>
          <p:nvPr/>
        </p:nvSpPr>
        <p:spPr>
          <a:xfrm>
            <a:off x="3886200" y="865188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B2CC9-17E2-498F-A30B-8258AC79967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52360" y="682560"/>
            <a:ext cx="4554720" cy="3416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Rectangle 7"/>
          <p:cNvSpPr/>
          <p:nvPr/>
        </p:nvSpPr>
        <p:spPr>
          <a:xfrm>
            <a:off x="3886200" y="865188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E959E-8AE2-4211-90EE-02FCFE457F2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52360" y="682560"/>
            <a:ext cx="4554720" cy="3416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6200" y="865188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4C045-E7BB-4798-AFD1-50CA31075F9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52360" y="682560"/>
            <a:ext cx="4554720" cy="3416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Rectangle 7"/>
          <p:cNvSpPr/>
          <p:nvPr/>
        </p:nvSpPr>
        <p:spPr>
          <a:xfrm>
            <a:off x="3886200" y="865188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21C62-2BC9-4FDE-BDED-CBFF7B69375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152360" y="682560"/>
            <a:ext cx="4554720" cy="3416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Rectangle 7"/>
          <p:cNvSpPr/>
          <p:nvPr/>
        </p:nvSpPr>
        <p:spPr>
          <a:xfrm>
            <a:off x="3886200" y="865188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458AA-E9F2-4E18-A4F0-F902C96ADBF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152360" y="682560"/>
            <a:ext cx="4554720" cy="3416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7"/>
          <p:cNvSpPr/>
          <p:nvPr/>
        </p:nvSpPr>
        <p:spPr>
          <a:xfrm>
            <a:off x="3886200" y="865188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CC1FF-7BA1-4190-9265-CD1AE1D5E86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52360" y="682560"/>
            <a:ext cx="4554720" cy="3416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Rectangle 7"/>
          <p:cNvSpPr/>
          <p:nvPr/>
        </p:nvSpPr>
        <p:spPr>
          <a:xfrm>
            <a:off x="3886200" y="865188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E9B67-E538-4427-9FD2-0874507394D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152360" y="682560"/>
            <a:ext cx="4554720" cy="34164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23792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5411725-A994-4D60-94DF-E07A8450E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1A91137-1361-4F09-B9F8-53C15CF59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ubTitle"/>
          </p:nvPr>
        </p:nvSpPr>
        <p:spPr>
          <a:xfrm>
            <a:off x="68580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BD362AC-4752-4011-A6BF-21EE9D4F5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685800" y="42379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C5F8873-AB3F-461F-80D0-D974256D4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668480" y="42379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7F51239-3832-4D86-B2C7-FC7D6FD76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85800" y="423792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BE35F66-C9CC-4B2E-8782-5A51006E2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685800" y="423792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8E39E3B-8E24-49D6-A5CF-42D6730B5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85800" y="42379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668480" y="42379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46B7269-1102-4387-9486-821B6685C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3313800" y="22078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5941440" y="22078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685800" y="42379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6"/>
          <p:cNvSpPr>
            <a:spLocks noGrp="1"/>
          </p:cNvSpPr>
          <p:nvPr>
            <p:ph/>
          </p:nvPr>
        </p:nvSpPr>
        <p:spPr>
          <a:xfrm>
            <a:off x="3313800" y="42379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7"/>
          <p:cNvSpPr>
            <a:spLocks noGrp="1"/>
          </p:cNvSpPr>
          <p:nvPr>
            <p:ph/>
          </p:nvPr>
        </p:nvSpPr>
        <p:spPr>
          <a:xfrm>
            <a:off x="5941440" y="42379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7F8EABF-0741-481C-A10F-E9CDD41AB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FDB19F6-451C-43A3-B947-F5398C94F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2379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2379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685800" y="220788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FD995BF-F406-4F21-80C3-586B0CBCC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ECBAEB2-18A4-479A-AF5D-63B0E8D4A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1365589-C525-4286-9823-97A579D10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A0B84DB-50B3-4750-98CD-3D6830ACD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68580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1B0E157-DAE7-4041-8A67-B259E8593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685800" y="42379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C854F70-6BC0-4DD3-9F26-EF64B0069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668480" y="42379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4E14C6C-5AD1-434F-ADE8-05EF02F14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85800" y="423792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AC4C30B-3D2A-4D21-BA41-E92D3862A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685800" y="423792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93A96AC-7B48-4086-8C81-7C2BDA03D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85800" y="42379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668480" y="42379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8667A1A-5443-4CE3-901A-2FA87E21A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22078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22078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2379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2379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2379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313800" y="22078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5941440" y="22078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685800" y="42379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3313800" y="42379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5941440" y="42379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CF8E5C0-83B6-463E-BB06-E085BC925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7B3DE56-6C3A-4731-8DE4-DC25E20F0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subTitle"/>
          </p:nvPr>
        </p:nvSpPr>
        <p:spPr>
          <a:xfrm>
            <a:off x="685800" y="220788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F44D382-0926-4466-BF52-37BC0F77B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8CFA3E5-BB9A-4EA7-8864-604F140B8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1F40EC5-A9A0-46DE-A734-9BDC22629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23F6217-644B-4C4A-B1E9-63BC80C3B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ubTitle"/>
          </p:nvPr>
        </p:nvSpPr>
        <p:spPr>
          <a:xfrm>
            <a:off x="68580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AF88D2E-FF55-4707-8D02-316CD8A29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2379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32D5DC9-D0D5-4B93-B1A0-34FED43D2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668480" y="42379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A579458-7E53-447C-943C-9C8725922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85800" y="423792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07A8BEB-CC27-40AB-BF00-EAFB08D9A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850C9-32D9-425D-A1AE-759F6D92B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685800" y="423792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4F144C6-428C-4964-9296-431578689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85800" y="42379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668480" y="42379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0CAF5E8-83D9-41F1-A7A0-BEDAAA61E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3313800" y="22078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5941440" y="22078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685800" y="42379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/>
          </p:nvPr>
        </p:nvSpPr>
        <p:spPr>
          <a:xfrm>
            <a:off x="3313800" y="42379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7"/>
          <p:cNvSpPr>
            <a:spLocks noGrp="1"/>
          </p:cNvSpPr>
          <p:nvPr>
            <p:ph/>
          </p:nvPr>
        </p:nvSpPr>
        <p:spPr>
          <a:xfrm>
            <a:off x="5941440" y="42379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8CFD0A7-A948-46BC-9443-340075235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8BA762C-FDAB-41C4-AA68-813ABF13F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subTitle"/>
          </p:nvPr>
        </p:nvSpPr>
        <p:spPr>
          <a:xfrm>
            <a:off x="685800" y="220788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E831124-028D-45BB-A2B3-AC0773C05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428674C-D03A-4139-B55A-4731ABBF3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8CC9DB6-9E65-43B0-AB8D-80FFFFDC8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AFEE4AC-CBA6-4252-8C05-29AB73441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ubTitle"/>
          </p:nvPr>
        </p:nvSpPr>
        <p:spPr>
          <a:xfrm>
            <a:off x="68580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52C3863-388C-4797-A1BD-774FF28C1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685800" y="42379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A0451CF-EC96-4F23-842A-38524BCFE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800" y="220788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2946D-2F53-4591-8C7A-3EC2E635A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668480" y="42379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CBC21B0-8FEA-4281-8C4D-2C06EA3C9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685800" y="423792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9B0770D-E1E8-4164-AFA6-3BEC3F613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685800" y="423792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254C4EB-F663-44C7-9D31-DD79D0237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685800" y="42379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4668480" y="42379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98556F2-4C9C-4F25-81E3-12E94D1A5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3313800" y="22078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5941440" y="22078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685800" y="42379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6"/>
          <p:cNvSpPr>
            <a:spLocks noGrp="1"/>
          </p:cNvSpPr>
          <p:nvPr>
            <p:ph/>
          </p:nvPr>
        </p:nvSpPr>
        <p:spPr>
          <a:xfrm>
            <a:off x="3313800" y="42379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7"/>
          <p:cNvSpPr>
            <a:spLocks noGrp="1"/>
          </p:cNvSpPr>
          <p:nvPr>
            <p:ph/>
          </p:nvPr>
        </p:nvSpPr>
        <p:spPr>
          <a:xfrm>
            <a:off x="5941440" y="42379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F48CB7E-C891-413D-83AF-907B6667E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B8CB621-EC3F-4F5B-801F-8F05236E7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 type="subTitle"/>
          </p:nvPr>
        </p:nvSpPr>
        <p:spPr>
          <a:xfrm>
            <a:off x="685800" y="220788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75EE635-ECB0-427F-A1B6-C6A91526F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DEBA114-4473-4111-97D0-678B037E1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F8A1A0A-0D5B-4106-AD99-8BFA5582A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9B904F5-9405-40A0-964B-42D6CFEF3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16FCB-9983-4179-A59F-662FDBEBE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subTitle"/>
          </p:nvPr>
        </p:nvSpPr>
        <p:spPr>
          <a:xfrm>
            <a:off x="68580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74F8D2D-AE94-4FC3-9079-60CFDEE0F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685800" y="42379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E68351D-A14E-4E7C-947F-B6B0E1A6F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4668480" y="42379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60D2DB5-C8FD-48AF-B972-7A8D663C3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685800" y="423792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3D1CF1F-B03D-4DD9-BA1B-1D43B6B88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685800" y="423792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0D9AFED-AE31-418F-A0D1-A860DA626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85800" y="42379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4668480" y="42379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6A94F7E-04C7-42E5-A5A3-92111AD9E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3313800" y="22078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941440" y="22078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/>
          </p:nvPr>
        </p:nvSpPr>
        <p:spPr>
          <a:xfrm>
            <a:off x="685800" y="42379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6"/>
          <p:cNvSpPr>
            <a:spLocks noGrp="1"/>
          </p:cNvSpPr>
          <p:nvPr>
            <p:ph/>
          </p:nvPr>
        </p:nvSpPr>
        <p:spPr>
          <a:xfrm>
            <a:off x="3313800" y="42379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7"/>
          <p:cNvSpPr>
            <a:spLocks noGrp="1"/>
          </p:cNvSpPr>
          <p:nvPr>
            <p:ph/>
          </p:nvPr>
        </p:nvSpPr>
        <p:spPr>
          <a:xfrm>
            <a:off x="5941440" y="42379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3B979B7-0918-4182-8AF5-936B52DB8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0D201-8C86-4498-86F7-8B655EF7B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8B255-350D-4317-96FA-545EEB205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1E8D7-9A87-44A9-96BE-6E8E51485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800" y="42379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7F371-4FDC-4DAD-9EDC-2F2EE0FB9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220788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8480" y="42379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DE3E2-A7FC-4E38-9B68-C398C2801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23792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EA421-186F-497A-AA4D-2BAAC31B5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5800" y="423792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EB1BB-DE67-400E-B72C-D47367E50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2379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8480" y="42379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4721E-C8F1-4B23-BA2A-4A122E581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3800" y="22078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41440" y="22078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5800" y="42379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3800" y="42379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41440" y="42379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891E1-16B8-4E2E-9C5D-D5BA541AC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1BAEF-521F-457A-B746-E87C294EF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220788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D337C-12A6-4C64-9C5A-52989D295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F60F3-5ED8-4CC5-ADFA-1866BD05E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3D063-7133-4BBC-AA18-97624EC0F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FEC64-6500-4488-B09C-66CCBF09B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68580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12F24-3269-48CF-9936-647178C51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42379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A8D57-764A-4F64-AE1A-9478C5679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68480" y="42379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4A7AB-9EA0-4A8E-927C-B4F2F264C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423792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D759E-9E1F-4896-80C6-FABF94873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85800" y="423792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5F65C-1635-43B0-B506-01A0FB234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85800" y="42379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68480" y="42379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6552C-B6F6-4B18-B47F-4F0690882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3800" y="22078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941440" y="22078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685800" y="42379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3800" y="42379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941440" y="42379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C340A-994D-4731-BDE0-715053980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685800" y="220788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68580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85800" y="42379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68480" y="42379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85800" y="423792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685800" y="423792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85800" y="42379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68480" y="42379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313800" y="22078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941440" y="22078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685800" y="42379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313800" y="42379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5941440" y="42379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4F064E3-1DEC-4300-BDED-362B85A14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685800" y="220788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6E6C99E-EBD0-4252-BCAB-6DA7BA5A3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AE98231-8B4F-45EC-9EBC-ADE39DE1F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203C665-E8DA-4FAF-B0FB-DB64F1E53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8E2D524-4337-40B9-8683-E6BED471D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8580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A012D3F-5B65-424F-9D2C-51561CEF8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85800" y="42379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09C3B9A-1678-488F-B030-15CBAD062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68480" y="42379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40F0031-3A08-4659-BDE7-5C64C5002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85800" y="423792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B58C232-2D5C-4157-850A-FFB48AF3C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85800" y="423792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6060863-D34D-4C41-AFC1-3BA44DE02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85800" y="42379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68480" y="42379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004860E-C93A-4521-9249-6F0EE6F90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313800" y="22078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941440" y="22078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685800" y="42379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313800" y="42379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941440" y="42379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28F4F20-8951-477C-BF91-EAB305B5A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C0126F1-E7C7-4936-B1C3-C5DEBC463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685800" y="220788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5D9E56B-A98E-46C3-981F-A845933E4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8D07CA0-11A8-469A-B86E-2D8DBD7C6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E7BBDC5-BC59-493E-A50E-16BB30E22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74B01D7-E170-4786-84F9-311D609DE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68580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0BE2468-83E3-40B8-ABCC-8A8DDEF0D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85800" y="42379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AFF7E61-7D08-4B1E-B8B1-1274BAB13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68480" y="42379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0369D05-CE6D-436D-A86B-20B2AD29C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85800" y="423792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456D54B-05DC-4D2D-92B0-9DD72D1BE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2379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685800" y="423792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EEFBF6D-8110-40E0-AD04-B13B855EA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85800" y="42379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68480" y="42379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C0E36A7-B2E1-4896-B3CE-9D3A0288D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313800" y="22078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5941440" y="22078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685800" y="42379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313800" y="42379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5941440" y="42379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2F884E1-34E0-46D8-876C-A64794ADC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07FFA5C-093C-4C05-9E12-92794EEEB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685800" y="220788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761A18D-1848-4721-B443-36A2F31D0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8375DA0-F43C-466F-BFBE-2FDDC73E7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871AC9A-74AC-473B-BDD8-3D6791655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DBF7958-1475-40A9-8D40-A628FEA6A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68580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03751CC-5101-4BC4-963B-9382925EA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85800" y="42379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EB23736-4110-4307-AF17-433E295F1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2379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68480" y="42379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FB35232-0DD3-446C-9B8D-07690F4FD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23792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D4A73A2-6039-485E-A5E6-89D998A2E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685800" y="423792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705096B-4062-4114-9910-1B86B005B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85800" y="42379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68480" y="42379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E1A86AF-9BCE-42FC-8774-2C98EE50D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313800" y="22078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5941440" y="22078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685800" y="42379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313800" y="42379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5941440" y="42379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C1A2F82-17CB-4F84-AA06-BB76652FB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14FD799-93A8-49E0-83F8-2F822D858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685800" y="220788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42BC70E-5F00-4A1E-8AFC-4E1B34E34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87B2C9A-C3A2-4BE6-8568-360E447C6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CD67437-5863-4EBD-AAB8-3960D1429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DC6A4B2-4C52-4D55-BDF1-D321D3133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23792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68580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644D3FB-0B7F-45E6-AB61-28F7AA12C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85800" y="42379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E8ECDC0-2068-41DD-87A4-73747F7AE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668480" y="42379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E9B76CC-7CA9-4E17-A68F-C372B9A74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685800" y="423792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63AB8B8-4775-4F2C-A782-443AD3AC7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685800" y="423792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E3C36A6-A89A-48E0-97CC-61F725D1B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85800" y="42379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4668480" y="42379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22DF9F4-876F-41A5-98E0-E9DEBCD5C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3313800" y="22078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5941440" y="22078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685800" y="42379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3313800" y="42379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5941440" y="42379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5665B8D-7B81-4CA5-A697-5B3D574CA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99DE73B-B780-484F-B960-76A350588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ubTitle"/>
          </p:nvPr>
        </p:nvSpPr>
        <p:spPr>
          <a:xfrm>
            <a:off x="685800" y="220788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AF094CC-FBE1-4D37-8E90-BC0C48A88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D19548A-F33D-4502-BF38-3ECBBE30D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20788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0408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93392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Date Placeholder 3"/>
          <p:cNvSpPr/>
          <p:nvPr/>
        </p:nvSpPr>
        <p:spPr>
          <a:xfrm>
            <a:off x="468360" y="6348240"/>
            <a:ext cx="842472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4d4d4f"/>
                </a:solidFill>
                <a:latin typeface="Arial"/>
                <a:ea typeface="Arial"/>
              </a:rPr>
              <a:t>Udhëzues për tekstin mësimor “Fizika 9” – sipas origjinalit Science Stage 9 Physics for Cambridge Secondary 1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4d4d4f"/>
                </a:solidFill>
                <a:latin typeface="Arial"/>
                <a:ea typeface="Arial"/>
              </a:rPr>
              <a:t>© Oxford University Press 201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4d4d4f"/>
                </a:solidFill>
                <a:latin typeface="Arial"/>
                <a:ea typeface="Arial"/>
              </a:rPr>
              <a:t>© në gjuhën shqipe Shtëpia Botuese Ideart, 2024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Picture 2" descr=""/>
          <p:cNvPicPr/>
          <p:nvPr/>
        </p:nvPicPr>
        <p:blipFill>
          <a:blip r:embed="rId2"/>
          <a:stretch/>
        </p:blipFill>
        <p:spPr>
          <a:xfrm>
            <a:off x="676440" y="60480"/>
            <a:ext cx="1855800" cy="777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Date Placeholder 3"/>
          <p:cNvSpPr/>
          <p:nvPr/>
        </p:nvSpPr>
        <p:spPr>
          <a:xfrm>
            <a:off x="468360" y="6348240"/>
            <a:ext cx="842472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4d4d4f"/>
                </a:solidFill>
                <a:latin typeface="Arial"/>
                <a:ea typeface="Arial"/>
              </a:rPr>
              <a:t>Udhëzues për tekstin mësimor “Fizika 9” – sipas origjinalit Science Stage 9 Physics for Cambridge Secondary 1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4d4d4f"/>
                </a:solidFill>
                <a:latin typeface="Arial"/>
                <a:ea typeface="Arial"/>
              </a:rPr>
              <a:t>© Oxford University Press 201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4d4d4f"/>
                </a:solidFill>
                <a:latin typeface="Arial"/>
                <a:ea typeface="Arial"/>
              </a:rPr>
              <a:t>© në gjuhën shqipe Shtëpia Botuese Ideart, 2024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1" name="Picture 2" descr=""/>
          <p:cNvPicPr/>
          <p:nvPr/>
        </p:nvPicPr>
        <p:blipFill>
          <a:blip r:embed="rId2"/>
          <a:stretch/>
        </p:blipFill>
        <p:spPr>
          <a:xfrm>
            <a:off x="676440" y="60480"/>
            <a:ext cx="1855800" cy="777600"/>
          </a:xfrm>
          <a:prstGeom prst="rect">
            <a:avLst/>
          </a:prstGeom>
          <a:ln w="0">
            <a:noFill/>
          </a:ln>
        </p:spPr>
      </p:pic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220788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0408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93392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dt" idx="23"/>
          </p:nvPr>
        </p:nvSpPr>
        <p:spPr>
          <a:xfrm>
            <a:off x="4647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 type="ftr" idx="24"/>
          </p:nvPr>
        </p:nvSpPr>
        <p:spPr>
          <a:xfrm>
            <a:off x="685440" y="624852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 type="sldNum" idx="2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750E2-FB36-4298-B324-B52B7176D7B9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Date Placeholder 3"/>
          <p:cNvSpPr/>
          <p:nvPr/>
        </p:nvSpPr>
        <p:spPr>
          <a:xfrm>
            <a:off x="468360" y="6348240"/>
            <a:ext cx="842472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4d4d4f"/>
                </a:solidFill>
                <a:latin typeface="Arial"/>
                <a:ea typeface="Arial"/>
              </a:rPr>
              <a:t>Udhëzues për tekstin mësimor “Fizika 9” – sipas origjinalit Science Stage 9 Physics for Cambridge Secondary 1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4d4d4f"/>
                </a:solidFill>
                <a:latin typeface="Arial"/>
                <a:ea typeface="Arial"/>
              </a:rPr>
              <a:t>© Oxford University Press 201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4d4d4f"/>
                </a:solidFill>
                <a:latin typeface="Arial"/>
                <a:ea typeface="Arial"/>
              </a:rPr>
              <a:t>© në gjuhën shqipe Shtëpia Botuese Ideart, 2024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4" name="Picture 2" descr=""/>
          <p:cNvPicPr/>
          <p:nvPr/>
        </p:nvPicPr>
        <p:blipFill>
          <a:blip r:embed="rId2"/>
          <a:stretch/>
        </p:blipFill>
        <p:spPr>
          <a:xfrm>
            <a:off x="676440" y="60480"/>
            <a:ext cx="1855800" cy="777600"/>
          </a:xfrm>
          <a:prstGeom prst="rect">
            <a:avLst/>
          </a:prstGeom>
          <a:ln w="0">
            <a:noFill/>
          </a:ln>
        </p:spPr>
      </p:pic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220788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0408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93392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 type="dt" idx="26"/>
          </p:nvPr>
        </p:nvSpPr>
        <p:spPr>
          <a:xfrm>
            <a:off x="4647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 type="ftr" idx="27"/>
          </p:nvPr>
        </p:nvSpPr>
        <p:spPr>
          <a:xfrm>
            <a:off x="685440" y="624852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 type="sldNum" idx="2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61060-F2BB-42D3-AC13-7F629C31C849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Date Placeholder 3"/>
          <p:cNvSpPr/>
          <p:nvPr/>
        </p:nvSpPr>
        <p:spPr>
          <a:xfrm>
            <a:off x="468360" y="6348240"/>
            <a:ext cx="842472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4d4d4f"/>
                </a:solidFill>
                <a:latin typeface="Arial"/>
                <a:ea typeface="Arial"/>
              </a:rPr>
              <a:t>Udhëzues për tekstin mësimor “Fizika 9” – sipas origjinalit Science Stage 9 Physics for Cambridge Secondary 1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4d4d4f"/>
                </a:solidFill>
                <a:latin typeface="Arial"/>
                <a:ea typeface="Arial"/>
              </a:rPr>
              <a:t>© Oxford University Press 201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4d4d4f"/>
                </a:solidFill>
                <a:latin typeface="Arial"/>
                <a:ea typeface="Arial"/>
              </a:rPr>
              <a:t>© në gjuhën shqipe Shtëpia Botuese Ideart, 2024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7" name="Picture 2" descr=""/>
          <p:cNvPicPr/>
          <p:nvPr/>
        </p:nvPicPr>
        <p:blipFill>
          <a:blip r:embed="rId2"/>
          <a:stretch/>
        </p:blipFill>
        <p:spPr>
          <a:xfrm>
            <a:off x="676440" y="60480"/>
            <a:ext cx="1855800" cy="777600"/>
          </a:xfrm>
          <a:prstGeom prst="rect">
            <a:avLst/>
          </a:prstGeom>
          <a:ln w="0">
            <a:noFill/>
          </a:ln>
        </p:spPr>
      </p:pic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220788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0408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93392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 type="dt" idx="29"/>
          </p:nvPr>
        </p:nvSpPr>
        <p:spPr>
          <a:xfrm>
            <a:off x="4647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 type="ftr" idx="30"/>
          </p:nvPr>
        </p:nvSpPr>
        <p:spPr>
          <a:xfrm>
            <a:off x="685440" y="624852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 type="sldNum" idx="3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FD256-9E7E-47B6-A2F6-3E93F710AD91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Date Placeholder 3"/>
          <p:cNvSpPr/>
          <p:nvPr/>
        </p:nvSpPr>
        <p:spPr>
          <a:xfrm>
            <a:off x="468360" y="6348240"/>
            <a:ext cx="842472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4d4d4f"/>
                </a:solidFill>
                <a:latin typeface="Arial"/>
                <a:ea typeface="Arial"/>
              </a:rPr>
              <a:t>Udhëzues për tekstin mësimor “Fizika 9” – sipas origjinalit Science Stage 9 Physics for Cambridge Secondary 1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4d4d4f"/>
                </a:solidFill>
                <a:latin typeface="Arial"/>
                <a:ea typeface="Arial"/>
              </a:rPr>
              <a:t>© Oxford University Press 201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4d4d4f"/>
                </a:solidFill>
                <a:latin typeface="Arial"/>
                <a:ea typeface="Arial"/>
              </a:rPr>
              <a:t>© në gjuhën shqipe Shtëpia Botuese Ideart, 2024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0" name="Picture 2" descr=""/>
          <p:cNvPicPr/>
          <p:nvPr/>
        </p:nvPicPr>
        <p:blipFill>
          <a:blip r:embed="rId2"/>
          <a:stretch/>
        </p:blipFill>
        <p:spPr>
          <a:xfrm>
            <a:off x="676440" y="60480"/>
            <a:ext cx="1855800" cy="777600"/>
          </a:xfrm>
          <a:prstGeom prst="rect">
            <a:avLst/>
          </a:prstGeom>
          <a:ln w="0">
            <a:noFill/>
          </a:ln>
        </p:spPr>
      </p:pic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685800" y="220788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0408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93392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 type="dt" idx="32"/>
          </p:nvPr>
        </p:nvSpPr>
        <p:spPr>
          <a:xfrm>
            <a:off x="4647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 type="ftr" idx="33"/>
          </p:nvPr>
        </p:nvSpPr>
        <p:spPr>
          <a:xfrm>
            <a:off x="685440" y="624852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 type="sldNum" idx="3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CE98A-10C8-43EC-8206-E1D5FFA9B112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876D6-3A85-4468-BA5D-18BB7EBC4D0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Date Placeholder 3"/>
          <p:cNvSpPr/>
          <p:nvPr/>
        </p:nvSpPr>
        <p:spPr>
          <a:xfrm>
            <a:off x="468360" y="6348240"/>
            <a:ext cx="842472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4d4d4f"/>
                </a:solidFill>
                <a:latin typeface="Arial"/>
                <a:ea typeface="Arial"/>
              </a:rPr>
              <a:t>Udhëzues për tekstin mësimor “Fizika 9” – sipas origjinalit Science Stage 9 Physics for Cambridge Secondary 1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4d4d4f"/>
                </a:solidFill>
                <a:latin typeface="Arial"/>
                <a:ea typeface="Arial"/>
              </a:rPr>
              <a:t>© Oxford University Press 201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4d4d4f"/>
                </a:solidFill>
                <a:latin typeface="Arial"/>
                <a:ea typeface="Arial"/>
              </a:rPr>
              <a:t>© në gjuhën shqipe Shtëpia Botuese Ideart, 2024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2"/>
          <a:stretch/>
        </p:blipFill>
        <p:spPr>
          <a:xfrm>
            <a:off x="676440" y="60480"/>
            <a:ext cx="1855800" cy="7776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220788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0408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93392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4"/>
          </p:nvPr>
        </p:nvSpPr>
        <p:spPr>
          <a:xfrm>
            <a:off x="4647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5"/>
          </p:nvPr>
        </p:nvSpPr>
        <p:spPr>
          <a:xfrm>
            <a:off x="685440" y="624852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FB3A6-6996-47A1-975E-ED4B79BBFDB6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Date Placeholder 3"/>
          <p:cNvSpPr/>
          <p:nvPr/>
        </p:nvSpPr>
        <p:spPr>
          <a:xfrm>
            <a:off x="468360" y="6348240"/>
            <a:ext cx="842472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4d4d4f"/>
                </a:solidFill>
                <a:latin typeface="Arial"/>
                <a:ea typeface="Arial"/>
              </a:rPr>
              <a:t>Udhëzues për tekstin mësimor “Fizika 9” – sipas origjinalit Science Stage 9 Physics for Cambridge Secondary 1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4d4d4f"/>
                </a:solidFill>
                <a:latin typeface="Arial"/>
                <a:ea typeface="Arial"/>
              </a:rPr>
              <a:t>© Oxford University Press 201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4d4d4f"/>
                </a:solidFill>
                <a:latin typeface="Arial"/>
                <a:ea typeface="Arial"/>
              </a:rPr>
              <a:t>© në gjuhën shqipe Shtëpia Botuese Ideart, 2024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Picture 2" descr=""/>
          <p:cNvPicPr/>
          <p:nvPr/>
        </p:nvPicPr>
        <p:blipFill>
          <a:blip r:embed="rId2"/>
          <a:stretch/>
        </p:blipFill>
        <p:spPr>
          <a:xfrm>
            <a:off x="676440" y="60480"/>
            <a:ext cx="1855800" cy="7776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220788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0408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93392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ftr" idx="7"/>
          </p:nvPr>
        </p:nvSpPr>
        <p:spPr>
          <a:xfrm>
            <a:off x="491760" y="5960880"/>
            <a:ext cx="7885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Date Placeholder 3"/>
          <p:cNvSpPr/>
          <p:nvPr/>
        </p:nvSpPr>
        <p:spPr>
          <a:xfrm>
            <a:off x="468360" y="6348240"/>
            <a:ext cx="842472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4d4d4f"/>
                </a:solidFill>
                <a:latin typeface="Arial"/>
                <a:ea typeface="Arial"/>
              </a:rPr>
              <a:t>Udhëzues për tekstin mësimor “Fizika 9” – sipas origjinalit Science Stage 9 Physics for Cambridge Secondary 1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4d4d4f"/>
                </a:solidFill>
                <a:latin typeface="Arial"/>
                <a:ea typeface="Arial"/>
              </a:rPr>
              <a:t>© Oxford University Press 201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4d4d4f"/>
                </a:solidFill>
                <a:latin typeface="Arial"/>
                <a:ea typeface="Arial"/>
              </a:rPr>
              <a:t>© në gjuhën shqipe Shtëpia Botuese Ideart, 2024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Picture 2" descr=""/>
          <p:cNvPicPr/>
          <p:nvPr/>
        </p:nvPicPr>
        <p:blipFill>
          <a:blip r:embed="rId2"/>
          <a:stretch/>
        </p:blipFill>
        <p:spPr>
          <a:xfrm>
            <a:off x="676440" y="60480"/>
            <a:ext cx="1855800" cy="7776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220788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0408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93392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8"/>
          </p:nvPr>
        </p:nvSpPr>
        <p:spPr>
          <a:xfrm>
            <a:off x="4647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9"/>
          </p:nvPr>
        </p:nvSpPr>
        <p:spPr>
          <a:xfrm>
            <a:off x="685440" y="624852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5DE7F-1893-4F03-8F18-BDC279AB4322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Date Placeholder 3"/>
          <p:cNvSpPr/>
          <p:nvPr/>
        </p:nvSpPr>
        <p:spPr>
          <a:xfrm>
            <a:off x="468360" y="6348240"/>
            <a:ext cx="842472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4d4d4f"/>
                </a:solidFill>
                <a:latin typeface="Arial"/>
                <a:ea typeface="Arial"/>
              </a:rPr>
              <a:t>Udhëzues për tekstin mësimor “Fizika 9” – sipas origjinalit Science Stage 9 Physics for Cambridge Secondary 1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4d4d4f"/>
                </a:solidFill>
                <a:latin typeface="Arial"/>
                <a:ea typeface="Arial"/>
              </a:rPr>
              <a:t>© Oxford University Press 201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4d4d4f"/>
                </a:solidFill>
                <a:latin typeface="Arial"/>
                <a:ea typeface="Arial"/>
              </a:rPr>
              <a:t>© në gjuhën shqipe Shtëpia Botuese Ideart, 2024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" name="Picture 2" descr=""/>
          <p:cNvPicPr/>
          <p:nvPr/>
        </p:nvPicPr>
        <p:blipFill>
          <a:blip r:embed="rId2"/>
          <a:stretch/>
        </p:blipFill>
        <p:spPr>
          <a:xfrm>
            <a:off x="676440" y="60480"/>
            <a:ext cx="1855800" cy="77760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220788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0408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93392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11"/>
          </p:nvPr>
        </p:nvSpPr>
        <p:spPr>
          <a:xfrm>
            <a:off x="4647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ftr" idx="12"/>
          </p:nvPr>
        </p:nvSpPr>
        <p:spPr>
          <a:xfrm>
            <a:off x="685440" y="624852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sldNum" idx="1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07440-BC16-4815-8315-4748C9C1F31C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Date Placeholder 3"/>
          <p:cNvSpPr/>
          <p:nvPr/>
        </p:nvSpPr>
        <p:spPr>
          <a:xfrm>
            <a:off x="468360" y="6348240"/>
            <a:ext cx="842472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4d4d4f"/>
                </a:solidFill>
                <a:latin typeface="Arial"/>
                <a:ea typeface="Arial"/>
              </a:rPr>
              <a:t>Udhëzues për tekstin mësimor “Fizika 9” – sipas origjinalit Science Stage 9 Physics for Cambridge Secondary 1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4d4d4f"/>
                </a:solidFill>
                <a:latin typeface="Arial"/>
                <a:ea typeface="Arial"/>
              </a:rPr>
              <a:t>© Oxford University Press 201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4d4d4f"/>
                </a:solidFill>
                <a:latin typeface="Arial"/>
                <a:ea typeface="Arial"/>
              </a:rPr>
              <a:t>© në gjuhën shqipe Shtëpia Botuese Ideart, 2024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2" name="Picture 2" descr=""/>
          <p:cNvPicPr/>
          <p:nvPr/>
        </p:nvPicPr>
        <p:blipFill>
          <a:blip r:embed="rId2"/>
          <a:stretch/>
        </p:blipFill>
        <p:spPr>
          <a:xfrm>
            <a:off x="676440" y="60480"/>
            <a:ext cx="1855800" cy="777600"/>
          </a:xfrm>
          <a:prstGeom prst="rect">
            <a:avLst/>
          </a:prstGeom>
          <a:ln w="0">
            <a:noFill/>
          </a:ln>
        </p:spPr>
      </p:pic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220788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0408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93392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dt" idx="14"/>
          </p:nvPr>
        </p:nvSpPr>
        <p:spPr>
          <a:xfrm>
            <a:off x="4647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ftr" idx="15"/>
          </p:nvPr>
        </p:nvSpPr>
        <p:spPr>
          <a:xfrm>
            <a:off x="685440" y="624852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 type="sldNum" idx="1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D4F9E-9314-4E5B-A8ED-E46F217675E9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Date Placeholder 3"/>
          <p:cNvSpPr/>
          <p:nvPr/>
        </p:nvSpPr>
        <p:spPr>
          <a:xfrm>
            <a:off x="468360" y="6348240"/>
            <a:ext cx="842472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4d4d4f"/>
                </a:solidFill>
                <a:latin typeface="Arial"/>
                <a:ea typeface="Arial"/>
              </a:rPr>
              <a:t>Udhëzues për tekstin mësimor “Fizika 9” – sipas origjinalit Science Stage 9 Physics for Cambridge Secondary 1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4d4d4f"/>
                </a:solidFill>
                <a:latin typeface="Arial"/>
                <a:ea typeface="Arial"/>
              </a:rPr>
              <a:t>© Oxford University Press 201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4d4d4f"/>
                </a:solidFill>
                <a:latin typeface="Arial"/>
                <a:ea typeface="Arial"/>
              </a:rPr>
              <a:t>© në gjuhën shqipe Shtëpia Botuese Ideart, 2024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5" name="Picture 2" descr=""/>
          <p:cNvPicPr/>
          <p:nvPr/>
        </p:nvPicPr>
        <p:blipFill>
          <a:blip r:embed="rId2"/>
          <a:stretch/>
        </p:blipFill>
        <p:spPr>
          <a:xfrm>
            <a:off x="676440" y="60480"/>
            <a:ext cx="1855800" cy="777600"/>
          </a:xfrm>
          <a:prstGeom prst="rect">
            <a:avLst/>
          </a:prstGeom>
          <a:ln w="0">
            <a:noFill/>
          </a:ln>
        </p:spPr>
      </p:pic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220788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0408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93392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dt" idx="17"/>
          </p:nvPr>
        </p:nvSpPr>
        <p:spPr>
          <a:xfrm>
            <a:off x="4647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 type="ftr" idx="18"/>
          </p:nvPr>
        </p:nvSpPr>
        <p:spPr>
          <a:xfrm>
            <a:off x="685440" y="624852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 type="sldNum" idx="1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3D739-5AA7-4026-9085-C1D73318EA1E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Date Placeholder 3"/>
          <p:cNvSpPr/>
          <p:nvPr/>
        </p:nvSpPr>
        <p:spPr>
          <a:xfrm>
            <a:off x="468360" y="6348240"/>
            <a:ext cx="842472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4d4d4f"/>
                </a:solidFill>
                <a:latin typeface="Arial"/>
                <a:ea typeface="Arial"/>
              </a:rPr>
              <a:t>Udhëzues për tekstin mësimor “Fizika 9” – sipas origjinalit Science Stage 9 Physics for Cambridge Secondary 1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4d4d4f"/>
                </a:solidFill>
                <a:latin typeface="Arial"/>
                <a:ea typeface="Arial"/>
              </a:rPr>
              <a:t>© Oxford University Press 201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4d4d4f"/>
                </a:solidFill>
                <a:latin typeface="Arial"/>
                <a:ea typeface="Arial"/>
              </a:rPr>
              <a:t>© në gjuhën shqipe Shtëpia Botuese Ideart, 2024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8" name="Picture 2" descr=""/>
          <p:cNvPicPr/>
          <p:nvPr/>
        </p:nvPicPr>
        <p:blipFill>
          <a:blip r:embed="rId2"/>
          <a:stretch/>
        </p:blipFill>
        <p:spPr>
          <a:xfrm>
            <a:off x="676440" y="60480"/>
            <a:ext cx="1855800" cy="777600"/>
          </a:xfrm>
          <a:prstGeom prst="rect">
            <a:avLst/>
          </a:prstGeom>
          <a:ln w="0">
            <a:noFill/>
          </a:ln>
        </p:spPr>
      </p:pic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220788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0408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93392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 type="dt" idx="20"/>
          </p:nvPr>
        </p:nvSpPr>
        <p:spPr>
          <a:xfrm>
            <a:off x="4647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 type="ftr" idx="21"/>
          </p:nvPr>
        </p:nvSpPr>
        <p:spPr>
          <a:xfrm>
            <a:off x="685440" y="624852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 type="sldNum" idx="2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BDF23-1810-4EB4-AED7-29DBCCC60E4E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97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Text Box 2"/>
          <p:cNvSpPr/>
          <p:nvPr/>
        </p:nvSpPr>
        <p:spPr>
          <a:xfrm>
            <a:off x="2195640" y="692280"/>
            <a:ext cx="553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.14 Prodhimi i energjisë elektrik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3"/>
          <p:cNvSpPr/>
          <p:nvPr/>
        </p:nvSpPr>
        <p:spPr>
          <a:xfrm>
            <a:off x="611280" y="5530680"/>
            <a:ext cx="541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ëni një hartë koncep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Text Box 4"/>
          <p:cNvSpPr/>
          <p:nvPr/>
        </p:nvSpPr>
        <p:spPr>
          <a:xfrm>
            <a:off x="1066680" y="19051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Text Box 5"/>
          <p:cNvSpPr/>
          <p:nvPr/>
        </p:nvSpPr>
        <p:spPr>
          <a:xfrm>
            <a:off x="457200" y="1650960"/>
            <a:ext cx="7677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e përdorim energji elektrike gjatë gjithë kohës. Por sa dini për të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Rectangle 10"/>
          <p:cNvSpPr/>
          <p:nvPr/>
        </p:nvSpPr>
        <p:spPr>
          <a:xfrm>
            <a:off x="5638680" y="2882880"/>
            <a:ext cx="31813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hkruani sa më shumë fjalë ose ide që lidhen me energjinë elektrik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Box 1"/>
          <p:cNvSpPr/>
          <p:nvPr/>
        </p:nvSpPr>
        <p:spPr>
          <a:xfrm>
            <a:off x="7035840" y="106200"/>
            <a:ext cx="200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  <a:ea typeface="Arial"/>
              </a:rPr>
              <a:t>1.14 Rrjeti elektri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5" name="Picture 10" descr="C:\Users\Sarah\Dropbox\work\CIE Science Teachers CD\05. Artwork\Stage 9\Sourced\camb_tcd_l9_phy_ch01_PPT2_1.jpg"/>
          <p:cNvPicPr/>
          <p:nvPr/>
        </p:nvPicPr>
        <p:blipFill>
          <a:blip r:embed="rId1"/>
          <a:stretch/>
        </p:blipFill>
        <p:spPr>
          <a:xfrm>
            <a:off x="826920" y="2616120"/>
            <a:ext cx="4221360" cy="26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Text Box 2"/>
          <p:cNvSpPr/>
          <p:nvPr/>
        </p:nvSpPr>
        <p:spPr>
          <a:xfrm>
            <a:off x="1523880" y="704880"/>
            <a:ext cx="6096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Në biçikletën tuaj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Text Box 10"/>
          <p:cNvSpPr/>
          <p:nvPr/>
        </p:nvSpPr>
        <p:spPr>
          <a:xfrm>
            <a:off x="468360" y="1844640"/>
            <a:ext cx="4330800" cy="40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Çiklistët përdorin një dinamo për të prodhuar energji elektrike për dritat e ty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58920" indent="-35892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ani shumica e dritave të biçikletave furnizohen nga bateritw - bateritë zgjasin shumë më gjatë se më parë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8" name="Picture 6" descr="C:\Users\Sarah\Dropbox\work\CIE Science Teachers CD\05. Artwork\Stage 9\Sourced\camb_tcd_l9_phy_ch01_PPT2_2.jpg"/>
          <p:cNvPicPr/>
          <p:nvPr/>
        </p:nvPicPr>
        <p:blipFill>
          <a:blip r:embed="rId1"/>
          <a:stretch/>
        </p:blipFill>
        <p:spPr>
          <a:xfrm>
            <a:off x="5219640" y="1628640"/>
            <a:ext cx="3024360" cy="45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Text Box 3"/>
          <p:cNvSpPr/>
          <p:nvPr/>
        </p:nvSpPr>
        <p:spPr>
          <a:xfrm>
            <a:off x="3924360" y="1743120"/>
            <a:ext cx="4680000" cy="40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Ky gjenerator prodhon energji elektrike kur rrotullojmw dorezë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58920" indent="-35892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rmocentralet kanë gjeneratorë të tillë brenda tyre – por njerëzit nuk i rrotullojnw me dorë!Çfarë burimesh energjie përdorin at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Text Box 4"/>
          <p:cNvSpPr/>
          <p:nvPr/>
        </p:nvSpPr>
        <p:spPr>
          <a:xfrm>
            <a:off x="723960" y="704880"/>
            <a:ext cx="7696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Gjeneratorët e energjisë elektrik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1" name="Picture 1" descr=""/>
          <p:cNvPicPr/>
          <p:nvPr/>
        </p:nvPicPr>
        <p:blipFill>
          <a:blip r:embed="rId1"/>
          <a:stretch/>
        </p:blipFill>
        <p:spPr>
          <a:xfrm>
            <a:off x="826920" y="1700280"/>
            <a:ext cx="2881440" cy="40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2" name="Picture 7" descr="_x0017_09I.03.04_AW293.fh8.jpg                                        0001C2AD_x000c_Studio Files                   BCCA38C6:"/>
          <p:cNvPicPr/>
          <p:nvPr/>
        </p:nvPicPr>
        <p:blipFill>
          <a:blip r:embed="rId1"/>
          <a:stretch/>
        </p:blipFill>
        <p:spPr>
          <a:xfrm>
            <a:off x="4859280" y="1844640"/>
            <a:ext cx="3716280" cy="3960720"/>
          </a:xfrm>
          <a:prstGeom prst="rect">
            <a:avLst/>
          </a:prstGeom>
          <a:ln w="0">
            <a:noFill/>
          </a:ln>
        </p:spPr>
      </p:pic>
      <p:sp>
        <p:nvSpPr>
          <p:cNvPr id="573" name="Text Box 2"/>
          <p:cNvSpPr/>
          <p:nvPr/>
        </p:nvSpPr>
        <p:spPr>
          <a:xfrm>
            <a:off x="2428920" y="704880"/>
            <a:ext cx="464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Energjia e erë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3"/>
          <p:cNvSpPr/>
          <p:nvPr/>
        </p:nvSpPr>
        <p:spPr>
          <a:xfrm>
            <a:off x="444600" y="1916280"/>
            <a:ext cx="4198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Arial"/>
              </a:rPr>
              <a:t>Fryni fletët e ventilatorit dhe shikoni voltmetri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8"/>
          <p:cNvSpPr/>
          <p:nvPr/>
        </p:nvSpPr>
        <p:spPr>
          <a:xfrm>
            <a:off x="446040" y="3484440"/>
            <a:ext cx="3981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i po shndërrohet energjia juaj në energji elektrik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Text Box 2"/>
          <p:cNvSpPr/>
          <p:nvPr/>
        </p:nvSpPr>
        <p:spPr>
          <a:xfrm>
            <a:off x="468360" y="692280"/>
            <a:ext cx="815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Pagesa për energjinë elektrik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3"/>
          <p:cNvSpPr/>
          <p:nvPr/>
        </p:nvSpPr>
        <p:spPr>
          <a:xfrm>
            <a:off x="5364000" y="1700280"/>
            <a:ext cx="30481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Kur paguajmë energjinë elektrike, ne paguajmë karburantin që përdoret për të kthyer energj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ë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e tyre 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ë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energji elektrik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8" name="Picture 2" descr=""/>
          <p:cNvPicPr/>
          <p:nvPr/>
        </p:nvPicPr>
        <p:blipFill>
          <a:blip r:embed="rId1"/>
          <a:stretch/>
        </p:blipFill>
        <p:spPr>
          <a:xfrm>
            <a:off x="755640" y="1628640"/>
            <a:ext cx="3745080" cy="408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Text Box 2"/>
          <p:cNvSpPr/>
          <p:nvPr/>
        </p:nvSpPr>
        <p:spPr>
          <a:xfrm>
            <a:off x="495360" y="704880"/>
            <a:ext cx="815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Fuqia e rrymë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3"/>
          <p:cNvSpPr/>
          <p:nvPr/>
        </p:nvSpPr>
        <p:spPr>
          <a:xfrm>
            <a:off x="4788000" y="2048040"/>
            <a:ext cx="4105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tiketat e vlerësimit të fuqisë na tregojnë se sa shpejt një pajisje elektrike e sh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ë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ron energjinë elektrike në lloje të tjera energji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5"/>
          <p:cNvSpPr/>
          <p:nvPr/>
        </p:nvSpPr>
        <p:spPr>
          <a:xfrm>
            <a:off x="611280" y="5143680"/>
            <a:ext cx="8037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ila do të kushtojë më shumë për të punuar për 1 orë, një llambë 100 W apo dy llamba 60 W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2" name="Picture 7" descr="C:\Users\Sarah\Dropbox\work\CIE Science Teachers CD\05. Artwork\Stage 9\camb_tcd_l9_phy_ch01_PPT2_3.jpg"/>
          <p:cNvPicPr/>
          <p:nvPr/>
        </p:nvPicPr>
        <p:blipFill>
          <a:blip r:embed="rId1"/>
          <a:stretch/>
        </p:blipFill>
        <p:spPr>
          <a:xfrm>
            <a:off x="1173240" y="3645000"/>
            <a:ext cx="3456000" cy="934920"/>
          </a:xfrm>
          <a:prstGeom prst="rect">
            <a:avLst/>
          </a:prstGeom>
          <a:ln w="0">
            <a:noFill/>
          </a:ln>
        </p:spPr>
      </p:pic>
      <p:pic>
        <p:nvPicPr>
          <p:cNvPr id="583" name="Picture 8" descr="C:\Users\Sarah\Dropbox\work\CIE Science Teachers CD\05. Artwork\Stage 9\camb_tcd_l9_phy_ch01_PPT2_4.jpg"/>
          <p:cNvPicPr/>
          <p:nvPr/>
        </p:nvPicPr>
        <p:blipFill>
          <a:blip r:embed="rId2"/>
          <a:stretch/>
        </p:blipFill>
        <p:spPr>
          <a:xfrm>
            <a:off x="1173240" y="1557360"/>
            <a:ext cx="3456000" cy="19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Text Box 3"/>
          <p:cNvSpPr/>
          <p:nvPr/>
        </p:nvSpPr>
        <p:spPr>
          <a:xfrm>
            <a:off x="2671920" y="814320"/>
            <a:ext cx="3504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Provoni vet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4"/>
          <p:cNvSpPr/>
          <p:nvPr/>
        </p:nvSpPr>
        <p:spPr>
          <a:xfrm>
            <a:off x="444600" y="1676520"/>
            <a:ext cx="7958160" cy="152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hkruani një pyetje në lidhje me bateritë ose energjinë elektrik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58920" indent="-35892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hkruani përgjigjen në një fletë të veçantë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6"/>
          <p:cNvSpPr/>
          <p:nvPr/>
        </p:nvSpPr>
        <p:spPr>
          <a:xfrm>
            <a:off x="444600" y="3429000"/>
            <a:ext cx="7958160" cy="19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ërdorni pyetjet dhe përgjigjet tuaja për një aktivitet të ciklit të pyetjeve në klasë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58920" indent="-35892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Koha për veten. Shihni nëse mund ta plotësoni ciklin e pyetjeve më shpejt në fund të 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ë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imit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21T14:15:12Z</dcterms:created>
  <dc:creator/>
  <dc:description/>
  <dc:language>en-US</dc:language>
  <cp:lastModifiedBy/>
  <dcterms:modified xsi:type="dcterms:W3CDTF">2024-08-07T11:55:02Z</dcterms:modified>
  <cp:revision>1</cp:revision>
  <dc:subject/>
  <dc:title/>
</cp:coreProperties>
</file>