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914400" y="4325760"/>
            <a:ext cx="50292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35"/>
          </p:nvPr>
        </p:nvSpPr>
        <p:spPr>
          <a:xfrm>
            <a:off x="-36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36"/>
          </p:nvPr>
        </p:nvSpPr>
        <p:spPr>
          <a:xfrm>
            <a:off x="388584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1C29-CF1B-41FD-8345-032E0E86FE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8C00-75E3-45FD-8FB6-8C62C7519A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3E75-AA4D-4216-BE29-0EFDD48B50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5102-1A24-4B2A-B78E-1C589211B7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DD4-4CEF-454A-884F-5F2149A21E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C28F-D5AF-47A7-9522-9C8AECE429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5188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62E9-0585-4B50-9E8F-F7B582356C6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E7D3C-8F66-4007-8E08-76E267B2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B8DFC-922D-4C28-B4CE-633FC8D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CE28B-3E39-406E-9969-28CE105D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25014-AF62-4657-890C-6197B02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C27A0-BE4C-431C-85E5-002B1389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F2610-37B5-4C90-870F-DE157D4A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D409E-5675-4FF3-83F6-DDBD49CD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BF410-9EDD-4D76-B03F-9FD54FBD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82092-AD2E-43E1-B55F-EE24FA38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1062A-4873-4963-839B-B92BCEA4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4747-206E-457A-8844-6D8012DA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2E954-7D6A-45AD-8378-C2B73FCC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45482F-177C-43AC-B466-0B8D0F1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890C0-522E-42F4-BD4C-C932D39F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87823-C6BD-4861-B16F-039757B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B8BA-8B7C-47D0-9B63-9CDC281C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B626A-D6E2-40A4-B8F9-FEFFAD36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0C551-EDBA-4070-BE20-DB62DC6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354B9-6565-4189-ABBF-30F23A3D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73BA1-2602-47E7-ACC6-0B6EEA4F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72AE3-20FF-40C1-AC52-A985A418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75EA3-704E-4D28-940E-7AE64B9A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CC8F6-931E-4354-8389-86A7387B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6157D-8019-4F9C-8F9A-2C3F2C02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471826-89B3-4DA0-8B23-3B7BB538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5512A-0664-432D-8FBA-E2035D4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9829-615E-400A-BF89-AB4D03A5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C5450-FC7B-4871-9C13-2E885646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9CCF9-AB24-4937-8925-8E316CC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60E3D-0B28-4412-8F5D-0EFC5B9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D26-6C59-4B2C-AB6A-F829BF03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A0ED1-C7BB-4C13-93D4-EDA5882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CAB6F-B31C-4D86-8B94-3BB7B811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8AF11-6982-44C3-BFEB-FD12D5D2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21BCD-25B0-4014-85F6-CFA259C2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7F72C-C39D-461B-BDE2-8256724D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CE977-BC8D-4E73-B4A0-B390C60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B6A96-E1DB-4F3C-9934-066C3BD6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4ED36-DC29-4248-8CC1-34A91243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889BF-C736-460A-BBDC-2961376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9694-BD03-4136-904A-ACD305C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077-53D1-4681-B835-79904635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B470-4AB3-4797-A4CF-6BEDD64E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EFA0C-2CB9-4600-A2E4-369047F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FBBC6-DE4C-43CA-8168-0BDBA122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7E52-E5F7-484E-BC3E-33361E82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1D6ED-BAF0-4456-BDF4-94B6EDF0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C07-A420-45D3-85CC-0F23BBF7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440-37F3-4B89-BB1D-18A9ADA4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DEB-42E0-41DE-982D-6475E7A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096-09A9-4DBB-8AE5-9F474B79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78C-7456-4499-8CBB-4DBFA95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961-30EB-4A41-8E44-E3C6B8CA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34C-92F2-4728-B19C-C068703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A25-8D50-4E9E-A871-218DEE1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9F8-41DF-4220-9B6F-FCE68E53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2CE-5B88-489D-A55F-6AC1C7A7B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AE2C-1BC2-4283-B2FD-E5F860F5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F1EE-50DF-4B1E-8D57-AA8AFB98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1928-C0CD-416E-9C56-1C535C2E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4477-0874-41A3-A8E5-7D0BB1EF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D5C-CBC0-4B45-8688-1653B46D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4FE-B7EF-4AAC-B4E8-D09CDC20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2EBA-185B-44D5-9766-9AA1BDE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603A-BE59-4399-B16A-C72CF70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75C-3982-4DE7-A582-3C48E9AF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0C73-FE9B-4C5A-939B-463933E4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C28C-56FB-423C-8CE6-F4EDAC3E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7908-5BB2-4664-A10D-08F9C897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AAD2-1AC8-4C56-BCFF-D722C32F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62E9-F5FA-4459-9FC5-2BBE2AEF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AC03-FF0B-4DED-AE08-C7A20B2F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97A6-F244-420F-8795-FED88A5E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7041-C47B-4120-BCB0-4618673E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6DA8-1A6E-491F-96B5-6AE4CDB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7395-DD2A-4ECB-8E81-6FC6232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DB7B-B428-483D-8787-CA980853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19C9E-E906-400A-B407-4CDD4AC4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E169-4FBD-4AA6-89B0-FEB6396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AC71D-D407-4492-9748-0BFD4267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72AA-194D-49F2-96E3-001F649A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6170-35EB-4E93-AE5C-79BB3369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C8BE7-98BF-472F-B2FB-E2795BF6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5CA58-9719-4CD1-AAFF-F8DBE25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73DF5-8518-4574-B97A-9D34E644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ABDD-2A30-49F2-A3A2-BC798F67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61EF-9EE3-462F-BF7F-E3EBCA63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9B79-70AB-43F2-8773-5E26496E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38DEB-5236-45FC-827D-4E24F6B3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86DA2-0C14-4549-BB56-ADB3C76D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6677C-F9E2-46F5-AEF7-0E7F536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A1ED-DC4C-4D20-92C1-5C71491A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9C9B3-9D08-4381-8B6B-3DEA9E2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DD8C-37DF-4EC1-A012-6ADDF985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1CE3-D842-445F-A404-15A9587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13C97-DB2D-4703-818A-D62F7EE2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C49F-7345-4B04-A00C-CFA53B7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C592-99A0-45FD-A5EB-9C92C9F6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FBD2D-5F62-46DC-AEE2-561A60D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9E79-5921-4F75-98E9-67C69DE0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1FE71-9547-4074-B876-04392886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C9871-A87F-4ECD-9622-3B4D50BF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3F008-A2D8-433E-A554-0C2A678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AA5B-7717-4DC8-8FEB-E2F8F73A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DA147-6218-4E49-8233-34D2D3C3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6B5E8-DF64-4512-AC03-3ABA69EE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701A9-017F-4335-81DE-C233B9E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04A12-0EAE-4F53-8725-99D213E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E73AF-17C4-4142-9445-9DA89E70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09FD-D522-4EB3-A2E8-F0986CAC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7254-AFEA-4D18-B15F-089A1C12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ABF9F-5042-47DC-B0C4-A8D5BEF6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FB3C5-1699-4D48-BF60-1936DE5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7844-22BE-45C2-9904-623BCAA3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0A8C9-0CE7-46E7-975A-E630196C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28C3D-541E-48CA-8556-B5BD6C8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0AAA-8490-4956-8454-329220C4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A7A86-0FC3-44C6-844A-866FCA03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51D7C-B46E-43B1-BDCD-7439A343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3DD0A-14F5-487B-8EEC-8639806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4471B-75DE-43AC-9841-D99C744B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116B-0411-4C26-B396-0856EC06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981000"/>
            <a:ext cx="77724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91D2-85B0-48A5-B845-409AA9CD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534A-80F9-406E-AED1-9BCC1C33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8E4C-A635-427C-B01B-BCEF5F9E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85303-0AA3-4AE2-A97A-0792791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2379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D286-49C3-4F3B-870A-B8F6B20E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22078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2379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D1DCC-443D-42E3-ACA5-713FB367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22078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2379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F7ED6-93C7-4B01-99D0-8168E643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3B83B-79CC-4758-97A7-13919E60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5C23-E486-4E42-9AAD-45598352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9A87-BEE7-4905-AC6B-DCCA82A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271-2202-48DE-823C-8CCF42A5423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970B-3CD8-41C5-8520-2EF5BA49F6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7455-046C-42BE-9432-F2E409C77D3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5660-0E35-4814-A880-03BD9426880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1001-4EFC-4B93-BDBA-8EB64643FB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078B-3C1B-4452-881F-D145DF9F7D3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BD31-D365-4157-A7C9-EA2B17703C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4690-3BCE-41E5-ACFD-D025687F8BD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6A1E-CD7E-4AB6-B4B0-0C4ED4D68E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915C-B065-46DE-9047-6149BDBBE2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755640" y="6321600"/>
            <a:ext cx="7416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Udhëzues për tekstin mësimor “Fizika 9” – sipas origjinalit Science Stage 9 Physics for Cambridge Secondary 1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Oxford University Press 2014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4d4d4f"/>
                </a:solidFill>
                <a:latin typeface="Arial"/>
                <a:ea typeface="Arial"/>
              </a:rPr>
              <a:t>© në gjuhën shqipe Shtëpia Botuese Ideart, 2024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685800" y="74520"/>
            <a:ext cx="1811160" cy="9064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22078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647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685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8EB-DC22-485D-9B45-587B42398F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9" descr="C:\Users\Sarah\Dropbox\work\CIE Science Teachers CD\05. Artwork\Stage 9\Sourced\camb_tcd_l9_phy_ch01_PPT1_1.jpg"/>
          <p:cNvPicPr/>
          <p:nvPr/>
        </p:nvPicPr>
        <p:blipFill>
          <a:blip r:embed="rId1"/>
          <a:stretch/>
        </p:blipFill>
        <p:spPr>
          <a:xfrm>
            <a:off x="495360" y="2349360"/>
            <a:ext cx="4387680" cy="29196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"/>
          <p:cNvSpPr/>
          <p:nvPr/>
        </p:nvSpPr>
        <p:spPr>
          <a:xfrm>
            <a:off x="2050920" y="692280"/>
            <a:ext cx="56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.8 Fuqia e bateris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4937040" y="2349360"/>
            <a:ext cx="388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zato atë që mbani mend rreth qarkut brenda këtij ndri</a:t>
            </a:r>
            <a:r>
              <a:rPr b="0" lang="az-Cyrl-AZ" sz="2400" spc="-1" strike="noStrike">
                <a:solidFill>
                  <a:srgbClr val="000000"/>
                </a:solidFill>
                <a:latin typeface="Arial"/>
                <a:ea typeface="Arial"/>
              </a:rPr>
              <a:t>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es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066680" y="19051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444600" y="158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 mbani mend rreth qarqeve elektr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937040" y="4199040"/>
            <a:ext cx="388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janë të gjithë qarqet e tjera elektrike të njëj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4716000" y="71280"/>
            <a:ext cx="42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1.8 Prodhimi i energjisë elektrike me pi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1511280" y="7048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ërdorimi i bater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539640" y="2133720"/>
            <a:ext cx="77360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teritë përmbajnë një rezervë të energjisë kim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jë reaksion kimik e shndërron energjinë kimike në energji elektrike. Llamba  shndërron energjinë elektrike në energji dri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444600" y="1657440"/>
            <a:ext cx="75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ikoni me kujdes brenda p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3960" y="704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renda nj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p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1"/>
          <p:cNvSpPr/>
          <p:nvPr/>
        </p:nvSpPr>
        <p:spPr>
          <a:xfrm>
            <a:off x="484200" y="571824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 është e rrezikshme të hapësh vetë bateritë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4500720" y="2276640"/>
            <a:ext cx="428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teritë e para kishin brenda tyre acide të lëngshme. Si ndryshojnë bateritë moder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5290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7" descr="_x0017_09I.02.03_AW293.fh8.jpg                                        0001C2AD_x000c_Studio Files                   BCCA38C6:"/>
          <p:cNvPicPr/>
          <p:nvPr/>
        </p:nvPicPr>
        <p:blipFill>
          <a:blip r:embed="rId1"/>
          <a:stretch/>
        </p:blipFill>
        <p:spPr>
          <a:xfrm>
            <a:off x="2916360" y="1406520"/>
            <a:ext cx="3039840" cy="31687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2"/>
          <p:cNvSpPr/>
          <p:nvPr/>
        </p:nvSpPr>
        <p:spPr>
          <a:xfrm>
            <a:off x="571680" y="700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ja e tensionit të bateris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468360" y="486900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 më i madh të jetë voltazhi, aq më i madh është 'shtytja' që bateria i jep rrymës që të rrjedh rreth qark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5" descr="C:\Users\Sarah\Dropbox\work\CIE Science Teachers CD\05. Artwork\Stage 9\Sourced\camb_tcd_l9_phy_ch01_PPT1_2.jpg"/>
          <p:cNvPicPr/>
          <p:nvPr/>
        </p:nvPicPr>
        <p:blipFill>
          <a:blip r:embed="rId1"/>
          <a:stretch/>
        </p:blipFill>
        <p:spPr>
          <a:xfrm>
            <a:off x="179280" y="2133720"/>
            <a:ext cx="5359680" cy="360684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"/>
          <p:cNvSpPr/>
          <p:nvPr/>
        </p:nvSpPr>
        <p:spPr>
          <a:xfrm>
            <a:off x="495360" y="700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udimi i pilave me fru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5486400" y="2057400"/>
            <a:ext cx="2743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buloni se cilët faktorë ndryshojnë tensionin në një pilë me fruta ose per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2133720" y="70488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qia e frut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468360" y="206064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Çfarë zbuluat nga hetimi juaj për pilat me f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5"/>
          <p:cNvSpPr/>
          <p:nvPr/>
        </p:nvSpPr>
        <p:spPr>
          <a:xfrm>
            <a:off x="471600" y="37227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ëni një përmbledhje në klasë për të treguar atë që keni mësu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4:05:55Z</dcterms:created>
  <dc:creator/>
  <dc:description/>
  <dc:language>en-US</dc:language>
  <cp:lastModifiedBy/>
  <dcterms:modified xsi:type="dcterms:W3CDTF">2024-08-07T11:06:45Z</dcterms:modified>
  <cp:revision>1</cp:revision>
  <dc:subject/>
  <dc:title/>
</cp:coreProperties>
</file>