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B6AF-1FC4-4252-AEFB-FEF0CF68A7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031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3115-4111-4D48-BAFC-9876C8C46D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31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DECE-94EF-4279-8B29-8A1D9F9382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031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374A-2FCE-4B54-8AC3-55A673F1BA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31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39BE-6BF8-4F7C-BBB5-46DC440AF4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031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467A-595E-4E47-A971-7358DDC169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31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D376-BA7F-422D-8A60-069F5FD56A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31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CF08-6716-4B41-AE44-D798528044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96C3-B6B9-4D39-8915-BD4C6CD8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A808-ABE5-4519-B402-A0E361C5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82D5-6A69-42E1-AB58-3F77D612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AAC4-4DB3-40E5-99F3-5E90FA83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BEAF-2FCC-47A9-9ED6-FC123BF2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4643-C3D1-441F-8207-4A2AF8E1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A75C-7D17-4F18-A9B4-BB2D7643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2D1D-7B2E-40B7-8B8E-47A0AD2A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3423-13C2-4B9A-A301-977EEFC2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99FE-A90D-4207-9F07-C77A0563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8286-AD32-4E22-83A8-72564BFC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F75C-6FFB-40A2-B619-5623E38F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D4EF-4E13-4D23-88AC-DE2AED7248FF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Date Placeholder 3"/>
          <p:cNvSpPr/>
          <p:nvPr/>
        </p:nvSpPr>
        <p:spPr>
          <a:xfrm>
            <a:off x="0" y="6348240"/>
            <a:ext cx="9144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a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2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584360" cy="663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409760" y="6922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ment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066680" y="19051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57200" y="147312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ërdorni shkronjat e fjalës KOLOVAJZ për të filluar shtatë fjali për të treguar atë që dini për levat dhe baraspeshë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5859720" y="10620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2.4 Momenti dhe baraspes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23880" y="70488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menti i një fo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457200" y="1747800"/>
            <a:ext cx="7543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fekti rrotullues i një force quhet momenti i saj. Momenti i një force llogarit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menti = forca × distanca nga boshti i rrotul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457200" y="428796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menti i një force bëhet më i madh nëse forca është më e madhe, ose nëse forca është më larg nga boshti i rrotullim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431640" y="450540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ëse një forcë prej 20 N vepron në një largësi prej 3 m nga boshti i rrotullimit, momenti i saj është:  momenti = 20 N × 3 m = 60 N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28800" y="695160"/>
            <a:ext cx="622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logaritja e momente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332000" y="1987560"/>
            <a:ext cx="604836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571680" y="70488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ë drejtim të akrepave të orës, në drejtim të kundë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ar, antio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-25560" y="5573880"/>
            <a:ext cx="819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pjegoni pse kolovajza është e baraspeshu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975120" y="1611360"/>
            <a:ext cx="5118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a 30 N përpiqet të kthejë kolovajzën në drejtim të akrepave të orë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menti = 30N × 2m = 60 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4680" y="3556080"/>
            <a:ext cx="69343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ca 20 N përpiqet ta kthejë kolovajzën në drejtim të kundërt të akrepave të orë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menti = 20N × 3m = 60 N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9" descr="_x0017_09L.06.02_AW293.fh8.jpg                                        0001C2AD_x000c_Studio Files                   BCCA38C6:"/>
          <p:cNvPicPr/>
          <p:nvPr/>
        </p:nvPicPr>
        <p:blipFill>
          <a:blip r:embed="rId1"/>
          <a:stretch/>
        </p:blipFill>
        <p:spPr>
          <a:xfrm>
            <a:off x="406440" y="1809720"/>
            <a:ext cx="388620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495360" y="7048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orcat e barazpeshua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82760" y="32749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imi i momenteve thotë se leva është në baraspeshë në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482760" y="183996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jë levë është e balancuar nëse efektet rrotulluese të forcave mbi të anulo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826920" y="457200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menti orar = momenti kundër o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704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Testimi i parimit të momente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457200" y="49957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se ndryshoni njërën nga peshat dhe gjeni peshën tjetër që bën ekuilibrin e kolovajzë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374040" y="1636560"/>
            <a:ext cx="51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oni parimin e momentev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4851360" y="2298600"/>
            <a:ext cx="391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ëvizni  njërën peshë me hapa të barabartë dhe gjeni ku ta vendosni peshën tjetër për të bërë ekuilibrin e kolovajzë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4" descr="_x0017_09L.06.03_AW293.fh8.jpg                                        0001C2AD_x000c_Studio Files                   BCCA38C6:"/>
          <p:cNvPicPr/>
          <p:nvPr/>
        </p:nvPicPr>
        <p:blipFill>
          <a:blip r:embed="rId1"/>
          <a:stretch/>
        </p:blipFill>
        <p:spPr>
          <a:xfrm>
            <a:off x="558720" y="2665440"/>
            <a:ext cx="396252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_x001a_09L.06.02_AW293(2).fh8.jpg                                     0001C2AD_x000c_Studio Files                   BCCA38C6:"/>
          <p:cNvPicPr/>
          <p:nvPr/>
        </p:nvPicPr>
        <p:blipFill>
          <a:blip r:embed="rId1"/>
          <a:stretch/>
        </p:blipFill>
        <p:spPr>
          <a:xfrm>
            <a:off x="1674720" y="1268280"/>
            <a:ext cx="5703840" cy="17780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379440" y="704880"/>
            <a:ext cx="63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mente të baraspeshua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24000" y="3386160"/>
            <a:ext cx="85341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xënësi  i parë: përshkruani ose vizatoni një forcë që vepron në njërën anë të kolovajzë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xënësi  i dytë: vendosni forcën që do të baraspeshojë kolovajzën. Sa e ka madhësinë? Në cilën anë vazhdon? Sa larg nga pika mbështetë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15:07:40Z</dcterms:created>
  <dc:creator/>
  <dc:description/>
  <dc:language>en-US</dc:language>
  <cp:lastModifiedBy/>
  <dcterms:modified xsi:type="dcterms:W3CDTF">2024-08-05T07:55:13Z</dcterms:modified>
  <cp:revision>1</cp:revision>
  <dc:subject/>
  <dc:title/>
</cp:coreProperties>
</file>