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jpeg" ContentType="image/jpeg"/>
  <Override PartName="/ppt/media/image6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0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52360" y="682560"/>
            <a:ext cx="4554720" cy="3416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14400" y="4325760"/>
            <a:ext cx="5029200" cy="40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5188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5840" y="865188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8ACD5-E533-4B07-A295-3B8BD76359E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6200" y="865188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3B3CB-DB61-4CED-9EA0-F97E2BD2BE3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52360" y="682560"/>
            <a:ext cx="4554720" cy="34164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25760"/>
            <a:ext cx="5029200" cy="409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6200" y="865188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A52D2-2BA0-4D66-BCA4-76842AB1C0F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52360" y="682560"/>
            <a:ext cx="4554720" cy="3416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6200" y="865188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8C743-7640-4E12-B770-AEFA2767BCF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52360" y="682560"/>
            <a:ext cx="4554720" cy="3416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6200" y="865188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AC56B-BE84-4672-9221-E8D35506FC4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52360" y="682560"/>
            <a:ext cx="4554720" cy="3416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6200" y="865188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110D9-7DDC-4F38-A6B9-31F8A1FC63E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52360" y="682560"/>
            <a:ext cx="4554720" cy="3416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6200" y="865188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B8C17-E57F-4C1B-8590-B742648E66C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52360" y="682560"/>
            <a:ext cx="4554720" cy="34164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38A78-1E78-49BB-815B-DF1AE3C02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208080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1084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386B9-5009-4EFA-B1AD-FCDF1704B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8080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208080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1084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1084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6090C-7043-41B1-823C-1B95F04D1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208080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208080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208080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1084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1084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1084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AEBAE-F741-4C4C-A847-97074413A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208080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78820-EEA8-4146-8789-C81BD01E9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208080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B440F-4158-4812-A572-B62E404DA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208080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208080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96F93-8E05-443B-B340-6AB415B93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71A8B-6577-4996-8CCE-E0D85ABDC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F0761-88A4-449F-BFC8-B929706EB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208080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208080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1084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3F3D1-1295-44DC-8C57-94AE29292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208080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208080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1084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B01D5-1BD0-4556-B8B9-96A81E486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208080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208080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1084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2BA53-2592-48BE-A826-5C6E6B118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08080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0408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93392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47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85440" y="624852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ECE07-5417-4E39-94FB-5F50EFE93C1A}" type="slidenum">
              <a:rPr b="0" lang="en-GB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Date Placeholder 3"/>
          <p:cNvSpPr/>
          <p:nvPr/>
        </p:nvSpPr>
        <p:spPr>
          <a:xfrm>
            <a:off x="611280" y="6348240"/>
            <a:ext cx="8532720" cy="1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4d4d4f"/>
                </a:solidFill>
                <a:latin typeface="Arial"/>
                <a:ea typeface="Arial"/>
              </a:rPr>
              <a:t>Udhëzues për tekstin mësimor “Fizika 9” – sipas origjinalit Science Stage 9 Physics for Cambridge Secondary 1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4d4d4f"/>
                </a:solidFill>
                <a:latin typeface="Arial"/>
                <a:ea typeface="Arial"/>
              </a:rPr>
              <a:t>© Oxford University Press 201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4d4d4f"/>
                </a:solidFill>
                <a:latin typeface="Arial"/>
                <a:ea typeface="Arial"/>
              </a:rPr>
              <a:t>© në gjuhën shqipe Shtëpia Botuese Ideart, 202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1" descr=""/>
          <p:cNvPicPr/>
          <p:nvPr/>
        </p:nvPicPr>
        <p:blipFill>
          <a:blip r:embed="rId2"/>
          <a:stretch/>
        </p:blipFill>
        <p:spPr>
          <a:xfrm>
            <a:off x="685800" y="101520"/>
            <a:ext cx="1803240" cy="736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826920" y="907920"/>
            <a:ext cx="7593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rezatimi dhe konveksion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1692360" y="5157720"/>
            <a:ext cx="5832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i u ngritën këto balona në ajë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i qëndrojnë lart at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1066680" y="19051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Box 1"/>
          <p:cNvSpPr/>
          <p:nvPr/>
        </p:nvSpPr>
        <p:spPr>
          <a:xfrm>
            <a:off x="6300720" y="10620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  <a:ea typeface="Arial"/>
              </a:rPr>
              <a:t>3.3 Konveksion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2" descr="C:\Users\Sarah\Dropbox\work\CIE Science Teachers CD\05. Artwork\Stage 9\Sourced\camb_tcd_l9_phy_ch03_PPT2_1.jpg"/>
          <p:cNvPicPr/>
          <p:nvPr/>
        </p:nvPicPr>
        <p:blipFill>
          <a:blip r:embed="rId1"/>
          <a:stretch/>
        </p:blipFill>
        <p:spPr>
          <a:xfrm>
            <a:off x="1679400" y="1773360"/>
            <a:ext cx="5581800" cy="31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1246320" y="679320"/>
            <a:ext cx="671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ërhapja e energjisë termik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10"/>
          <p:cNvSpPr/>
          <p:nvPr/>
        </p:nvSpPr>
        <p:spPr>
          <a:xfrm>
            <a:off x="3276720" y="1413000"/>
            <a:ext cx="37335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Ky djalë mund ta ndjejë me të vërtetë nxehtësinë nga Diell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11"/>
          <p:cNvSpPr/>
          <p:nvPr/>
        </p:nvSpPr>
        <p:spPr>
          <a:xfrm>
            <a:off x="539640" y="4352760"/>
            <a:ext cx="3595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Ky gjarpër është shumë i ndjeshëm dhe mund ta ndjejë nxehtësinë që i vjen nga njeri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2" descr="C:\Users\Sarah\Dropbox\work\CIE Science Teachers CD\05. Artwork\Stage 9\Sourced\camb_tcd_l9_phy_ch03_PPT2_2.jpg"/>
          <p:cNvPicPr/>
          <p:nvPr/>
        </p:nvPicPr>
        <p:blipFill>
          <a:blip r:embed="rId1"/>
          <a:srcRect l="0" t="10987" r="0" b="13966"/>
          <a:stretch/>
        </p:blipFill>
        <p:spPr>
          <a:xfrm>
            <a:off x="898560" y="1413000"/>
            <a:ext cx="2160720" cy="24382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" descr=""/>
          <p:cNvPicPr/>
          <p:nvPr/>
        </p:nvPicPr>
        <p:blipFill>
          <a:blip r:embed="rId2"/>
          <a:stretch/>
        </p:blipFill>
        <p:spPr>
          <a:xfrm>
            <a:off x="4356000" y="3284640"/>
            <a:ext cx="423864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5"/>
          <p:cNvSpPr/>
          <p:nvPr/>
        </p:nvSpPr>
        <p:spPr>
          <a:xfrm>
            <a:off x="698400" y="4738680"/>
            <a:ext cx="7761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jri i nxehtë ngrihet lart. Energjia e Diellit shkakton një rrymë konveksioni. Kjo shqiponjë po përdor një rrymë konveksioni për 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ë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fluturu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6"/>
          <p:cNvSpPr/>
          <p:nvPr/>
        </p:nvSpPr>
        <p:spPr>
          <a:xfrm>
            <a:off x="1527120" y="679320"/>
            <a:ext cx="6095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Nxehtësia përhapet lar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2" descr="C:\Users\Sarah\Dropbox\work\CIE Science Teachers CD\05. Artwork\Stage 9\Sourced\camb_tcd_l9_phy_ch03_PPT2_4.jpg"/>
          <p:cNvPicPr/>
          <p:nvPr/>
        </p:nvPicPr>
        <p:blipFill>
          <a:blip r:embed="rId1"/>
          <a:stretch/>
        </p:blipFill>
        <p:spPr>
          <a:xfrm>
            <a:off x="2340000" y="1555920"/>
            <a:ext cx="443700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3"/>
          <p:cNvSpPr/>
          <p:nvPr/>
        </p:nvSpPr>
        <p:spPr>
          <a:xfrm>
            <a:off x="723960" y="2397240"/>
            <a:ext cx="3919320" cy="28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voni ta bëni këtë rrymë konveksioni në një lë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i mund t’i përdorim rrymat e konveksioni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7"/>
          <p:cNvSpPr/>
          <p:nvPr/>
        </p:nvSpPr>
        <p:spPr>
          <a:xfrm>
            <a:off x="503280" y="907920"/>
            <a:ext cx="85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Vëzhgimi dhe përdorimi i rrymave të konveksion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8" descr="_x0014_8I5.3_convection.jpg                                           000259D1_x000e_Nelson Thornes                 B7031174:"/>
          <p:cNvPicPr/>
          <p:nvPr/>
        </p:nvPicPr>
        <p:blipFill>
          <a:blip r:embed="rId1"/>
          <a:stretch/>
        </p:blipFill>
        <p:spPr>
          <a:xfrm>
            <a:off x="4788000" y="1557360"/>
            <a:ext cx="2849400" cy="426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3"/>
          <p:cNvSpPr/>
          <p:nvPr/>
        </p:nvSpPr>
        <p:spPr>
          <a:xfrm>
            <a:off x="539640" y="4508640"/>
            <a:ext cx="8372520" cy="13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357120" indent="-357120">
              <a:lnSpc>
                <a:spcPct val="100000"/>
              </a:lnSpc>
              <a:spcAft>
                <a:spcPts val="601"/>
              </a:spcAft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Ajri zgjerohet kur nxehet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 bëhet më pak i dendu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57120" indent="-35712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jri më pak i dendur ngjitet lar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57120" indent="-35712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jri më i ftohtë lëviz poshtë për ta zëvendësuar atë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6"/>
          <p:cNvSpPr/>
          <p:nvPr/>
        </p:nvSpPr>
        <p:spPr>
          <a:xfrm>
            <a:off x="1527120" y="679320"/>
            <a:ext cx="6095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hpjegimi i konveksioni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1" descr=""/>
          <p:cNvPicPr/>
          <p:nvPr/>
        </p:nvPicPr>
        <p:blipFill>
          <a:blip r:embed="rId1"/>
          <a:stretch/>
        </p:blipFill>
        <p:spPr>
          <a:xfrm>
            <a:off x="1908000" y="1306440"/>
            <a:ext cx="5175360" cy="311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3"/>
          <p:cNvSpPr/>
          <p:nvPr/>
        </p:nvSpPr>
        <p:spPr>
          <a:xfrm>
            <a:off x="709560" y="1565280"/>
            <a:ext cx="7753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hikoni këto fjalë kyçe. A mund të shkruani kuptimin e secilit prej ty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7"/>
          <p:cNvSpPr/>
          <p:nvPr/>
        </p:nvSpPr>
        <p:spPr>
          <a:xfrm>
            <a:off x="1522440" y="682560"/>
            <a:ext cx="6095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Fjalë kyç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8"/>
          <p:cNvSpPr/>
          <p:nvPr/>
        </p:nvSpPr>
        <p:spPr>
          <a:xfrm>
            <a:off x="3357720" y="2792520"/>
            <a:ext cx="17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nxeh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ë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9"/>
          <p:cNvSpPr/>
          <p:nvPr/>
        </p:nvSpPr>
        <p:spPr>
          <a:xfrm>
            <a:off x="684360" y="2792520"/>
            <a:ext cx="233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emperatu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ë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11"/>
          <p:cNvSpPr/>
          <p:nvPr/>
        </p:nvSpPr>
        <p:spPr>
          <a:xfrm>
            <a:off x="4842000" y="3583080"/>
            <a:ext cx="319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ë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cues term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12"/>
          <p:cNvSpPr/>
          <p:nvPr/>
        </p:nvSpPr>
        <p:spPr>
          <a:xfrm>
            <a:off x="1254240" y="3583080"/>
            <a:ext cx="293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zolator term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13"/>
          <p:cNvSpPr/>
          <p:nvPr/>
        </p:nvSpPr>
        <p:spPr>
          <a:xfrm>
            <a:off x="1571760" y="5316480"/>
            <a:ext cx="206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zgjeroh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14"/>
          <p:cNvSpPr/>
          <p:nvPr/>
        </p:nvSpPr>
        <p:spPr>
          <a:xfrm>
            <a:off x="3616200" y="4379760"/>
            <a:ext cx="140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kurr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15"/>
          <p:cNvSpPr/>
          <p:nvPr/>
        </p:nvSpPr>
        <p:spPr>
          <a:xfrm>
            <a:off x="4781520" y="5316480"/>
            <a:ext cx="27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konvek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16"/>
          <p:cNvSpPr/>
          <p:nvPr/>
        </p:nvSpPr>
        <p:spPr>
          <a:xfrm>
            <a:off x="5843520" y="4379760"/>
            <a:ext cx="185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rezati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17"/>
          <p:cNvSpPr/>
          <p:nvPr/>
        </p:nvSpPr>
        <p:spPr>
          <a:xfrm>
            <a:off x="5559480" y="2792520"/>
            <a:ext cx="330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ryma konveksio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18"/>
          <p:cNvSpPr/>
          <p:nvPr/>
        </p:nvSpPr>
        <p:spPr>
          <a:xfrm>
            <a:off x="1216080" y="4379760"/>
            <a:ext cx="16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en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ë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21T15:07:40Z</dcterms:created>
  <dc:creator/>
  <dc:description/>
  <dc:language>en-US</dc:language>
  <cp:lastModifiedBy/>
  <dcterms:modified xsi:type="dcterms:W3CDTF">2024-08-08T12:39:45Z</dcterms:modified>
  <cp:revision>1</cp:revision>
  <dc:subject/>
  <dc:title/>
</cp:coreProperties>
</file>