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41"/>
          </p:nvPr>
        </p:nvSpPr>
        <p:spPr>
          <a:xfrm>
            <a:off x="-36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42"/>
          </p:nvPr>
        </p:nvSpPr>
        <p:spPr>
          <a:xfrm>
            <a:off x="388584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6EC4-55FE-4EAD-9A2F-D5712DFC3B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2174-851F-4C88-A6B7-6FEA229655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FF9D-ABBD-4BA1-BB3C-A8DDBC7CAB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FF3B-EAC2-4A5A-B7B4-49A38B6EEC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5FED-115E-463C-B838-E68084E94A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D91A-C4C1-4EC1-97A0-06AADF5061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937F-8032-45D1-A05E-BCB5F2FBC7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74C9-0343-4E20-843F-CA07192B0F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AF9-79F0-4134-84DE-88912824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742-5FC3-49E3-AEA7-8ABD7102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1EE72-537A-4FEF-BEA0-E3F24300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B592A-8195-4182-8EEE-B9A6E9E1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91E39-1DEF-464B-BF7E-FB43AB84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F5F3F-6DC8-43F1-A0A3-399CF67F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DEBE3-A9C7-4967-9FA0-385A1280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6335B-BF06-4DAA-960D-E9AAC161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65D05-C365-4715-9E16-069407BC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60842-A685-48F9-A7BC-682B0222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3C7D1-9C9B-4753-B5BE-C1E12679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C28C0-D926-4992-BFBB-A2DB275C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3C8-14F9-41FC-AE22-849AB18E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31C42-DDB4-4E60-B745-D77B0A1B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7C4E1-E56A-4A35-ABF5-59E8F73E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2582F-6433-4367-B008-46D8C669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7B705-3E6D-4C91-A813-F9B85104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89783-A1D5-430B-9369-33E173F8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9DD55-25E1-4625-B5A9-E8FCBBAC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82C65-4850-4D97-ABC7-DAB68F86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41526-DFC9-472E-9ADC-F5BF59A8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AC461-1346-45EE-B76A-FB980FDF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14EE4-070D-41E4-A47D-15E5DF6B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1C0-F8CA-40C9-99D5-EB30B6E5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67C15-4566-4606-A425-F797BE55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B5F49-5618-485F-9076-1C7EFF7A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69125-AF22-4DDB-95C6-4B85EDA8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86D05-C048-4F73-9E77-82DB790E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407FE-3DD3-4B7D-A835-9F84E269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63FB1-C40F-4580-B2E0-22EE823D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0DB27-9E87-4988-B10D-C9ACC6F5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8B272-6993-4E30-BD92-C0150048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6891D-5F3D-45A1-B54F-EC773BB1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765A1-58D5-4617-9C2F-AB5EE1A1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F665-C68C-4D18-9EE5-19073E2A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F65D3-971A-4359-9AB5-F806B7C0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A148C-1EF9-4634-86AD-4BB40C67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1EF91-FD3C-4C10-B8BB-F2B1573F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3A68E-F454-4657-B887-47AFBFE2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46EBB-D6A8-4323-AB51-0D821FDF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0F993-70F9-4BD1-BB8B-211E64DB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CC358-FF17-4CDE-92C0-68CC6E14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4F0EC-C72F-4B5E-9972-D99B04FA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8C706-8CF1-4C15-B4E6-01C96D9B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AA54A-9320-4573-ADD6-DF1ED8B4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DF5E-E7B1-4D2F-A1FE-66C96583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605D8-A3AF-417A-88AD-3390D66D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0F28A-0D0D-4511-85C1-181D90B4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C6071-0C91-4ED7-AFAD-1007918B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77F2B-36CD-4E05-818D-BE4853C4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E42DC-467E-4DA3-AF8C-2223D8B5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F40F5-3E9D-4EA9-ACC0-CD678F0E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3A175-89AD-431F-9E9F-3BCAE7AC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A69EF-76CA-489D-8AF7-338C7CBA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17A74-9AA3-4888-805C-86C1EBAE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03D8C-81F6-406D-BBB0-5377A349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8794-2501-4DDC-AC42-7631046C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3178EE-B0B4-4CB5-9DF8-714B4941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C242A-9D53-4994-A3F2-60013BC4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7D7BA-6B2B-451D-A77B-26EE73FF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02897D-3DBB-43B2-9A5A-74E14A4F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B4069-4B70-4E63-BC15-C00C6FAC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4F15A9-A1D0-4440-8D24-C5EEA5CF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09926-DE5A-4699-B012-B0EFFC0B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557A-16D9-491B-B7D8-E123AE09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878E-02F2-4966-8C28-E93357C7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2046-5C33-427D-8539-A560F373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35C2-EA10-4D1D-8CCF-E059E4C4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FC0B-2346-452D-BB32-E3068CED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4C2A-F588-4283-98EC-E9AB02AB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0D2F-578F-4860-9ADC-6081C9D0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A4AB-96B7-4686-AD39-728BD26A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2F8D-EB14-447E-BE7D-D4622244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8D25-7255-4A9A-845D-1813A109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5B003-A6BA-4276-B33F-6D1990AE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61001-92BA-45CD-A402-4D8B8789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ED8A1-6919-4D44-949F-5E9F446D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B7C12-4C1D-4761-90D9-9E7272CA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13746-DDCD-48ED-A0FB-8C286012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AC2-32BA-4C5C-BF2B-FD398146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16F1D-A57D-49CD-92D6-1D2919A8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20C8C-1922-4CA1-A52D-80065E15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A015-0CB8-404A-B452-255ECC5D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5E4EC-C137-473B-BA6B-3F7902C3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93E33-F2D3-4368-BFD7-F18DB787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FCEC3-1DDA-436C-BB78-36603A07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F7C98-6E1D-4E95-832A-179E7EF3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7637D-2E8C-46B7-9F32-42C15745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C13F1-8DCD-4DA8-92CD-70E2FCAE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C375F-F795-4DC6-AC28-C14DB52F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4B5-9557-475F-B412-832C70D0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89F71-A0B5-4E0B-AEBF-ED16AC2F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EBA61-6BA0-47E2-A467-E7FF0718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E4D26-FB29-4794-ADC8-40C8D0E3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9BCA2-47A2-4624-8A47-F8F87E73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2E464-AA27-47CC-9100-E88B9B7A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8E99A-17FB-48FC-B235-AD2016FA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A40EC-BB9D-4289-935B-A0D54829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A1B22-552F-49C8-910C-74B0CE39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89F0E-E7C1-4F69-B681-A53F18DB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049FF-BD90-4920-B724-23889F71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436-6448-4467-B1B1-A8A38761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50177-5EE2-4F9C-8F8C-7425D793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ADD14-A2D1-460F-9345-058884F0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6B3F2-0678-4C2E-BF19-FC8F0874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4B787-EA9E-4882-B4E2-2D8D131C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F7C1C-BEC7-4F7E-9C9E-60992683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9B833-045B-4C19-AF7B-4A046756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82E16-8775-49FE-AF6C-0FC73ABA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078A3-7EA9-480A-8D6B-4709E993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0C1BC-9D2F-4633-97C1-FA07BBE5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847D3-D321-488F-8813-11E620A7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C8C2-41C1-415B-A725-48D0F284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2E0D5-2125-44C5-A82E-D4B494CF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4BD05-5533-4C67-B90D-15A345F5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78F91-F08B-4A20-8FBC-939B0915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B6636-CB55-4FC2-86D7-186A76B4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5916D-20CB-445A-A312-28DFEB1A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C0BAB-138F-4A73-BAB3-793BD48C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484DF-BAF1-485C-99B4-9475EB37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E781A-36B7-4A1E-9FCF-3030F820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DFAF1-8CD9-4AB2-8672-F494DEB9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863E8-7AAE-4130-8BB8-E22293B4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C38-9360-437C-8B6F-06069F5C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995B8-554E-4A0C-96F3-337A9D25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7DFB3-6D0F-4A70-AF94-6001C0BD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8539C-E38D-4985-9B04-38C16F5A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26AA7-52E6-43D8-B29D-3C3D8F8A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0B27E-CCFC-42EF-9EC7-8C54F3F1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DFED9-A3B1-42BF-85A4-55821A01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B3558-6400-4937-B101-194834CE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FA4F2-6706-4583-BECB-16597A26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4992A-F887-403E-9184-D6BF2AB9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AE5EF-B53C-4181-A326-949EE5B8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FA1-33E3-48BF-A8E6-D19A417D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7001C-FFFF-4556-A9F2-66431B97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C42B5-3F50-44CA-8CC2-DF245530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63257-186A-47B1-9979-A1A29FF0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FE628-A432-48D2-8672-0877F976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DC21F-9213-4351-A1F6-BDDE0E48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E03A0-4797-4B65-A771-84F236F6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B04F6-D307-4DDE-8234-E9299EEC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E10B1-4EA3-4966-B22D-F8FFA3AC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96B7E-63A3-4F0D-8B0D-DB9E5AF5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3435B-2DE7-44F6-928A-F1666A04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2E9-D660-48DC-A93E-2E686A4E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F4AF2-270C-42B0-B6BD-0B6C3640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871FB-A834-4E85-87C3-47073942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E6622-B237-48E5-B84F-025AC303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D266A-F918-43AB-A5B4-E1623EB4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FC817-4F1A-47EF-8C13-50CD0631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F9B61-AE44-448B-AFBC-BBF780FF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BBEDE-558C-4FBB-AD05-DDBEEA6D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E2B67-D66E-4EC0-8E73-4759557B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E5916-5892-4A84-8D0E-C3E75F90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64250-6AA2-4DBE-9B0B-5C90956D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hëzues për tekstin mësimor “Fizika 9” – sipas origjinalit Science Stage 9 Physics for Cambridge Secondar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© Oxford University Press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© në gjuhën shqipe Shtëpia Botuese Ideart, 202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87F8-8375-4AD1-BE13-1D0AD858415A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60E0-6047-4D57-845A-3385BD131C36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F0E6-C967-46C3-A6F3-0B0DEBE25692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28CC-A66E-4327-A70A-3B77F77D8CC8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E3F0-DE88-49D5-8724-3C3ACA0FC792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AA5B-E62A-40C6-955B-9E24312135D6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30A4-CE1E-4E16-9E9A-BB077D128879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562D-6545-492A-A208-6C14E387FBEA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182F-6EAA-47EF-B468-70BFF84050D0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470F-5FB6-4397-B3B2-B7C1C15FD92F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351D-C262-43CA-B101-34CF526D4FBA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96E2-6739-4E85-A2EA-BF646572962B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5945-877A-4632-8DD6-053FF8A41729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830160" y="100008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ërcjellsit dhe jo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cjel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t termi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066680" y="19051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684360" y="2708280"/>
            <a:ext cx="73152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kruani sa më shumë fjalë që mund të lidheni me nxehtësinë dhe temperaturë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mund t'i shpjegoni shokut/shoqes kuptimin e të gjitha fjalëve tuaj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Box 1"/>
          <p:cNvSpPr/>
          <p:nvPr/>
        </p:nvSpPr>
        <p:spPr>
          <a:xfrm>
            <a:off x="7288200" y="10620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3.2 Con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10"/>
          <p:cNvSpPr/>
          <p:nvPr/>
        </p:nvSpPr>
        <p:spPr>
          <a:xfrm>
            <a:off x="711360" y="5342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robat e ngrohta përbëhen nga izolues termik - ato nuk lejoj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që energjia termike të largohet shpej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1409760" y="6858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gadalësimi i 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cjellsh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1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" descr="C:\Users\Sarah\Dropbox\work\CIE Science Teachers CD\05. Artwork\Stage 9\Sourced\camb_tcd_l9_phy_ch03_PPT1_1.jpg"/>
          <p:cNvPicPr/>
          <p:nvPr/>
        </p:nvPicPr>
        <p:blipFill>
          <a:blip r:embed="rId1"/>
          <a:stretch/>
        </p:blipFill>
        <p:spPr>
          <a:xfrm>
            <a:off x="2643120" y="2525760"/>
            <a:ext cx="39290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5"/>
          <p:cNvSpPr/>
          <p:nvPr/>
        </p:nvSpPr>
        <p:spPr>
          <a:xfrm>
            <a:off x="684360" y="4836960"/>
            <a:ext cx="820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alet janë përcjellës të mirë term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ergjia termike nga uji i nxehtë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ë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Arial"/>
              </a:rPr>
              <a:t>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e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lehtësisht përmes radiatorëve dhe tubave prej çeliku ose bakri, në dhomë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1409760" y="6858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ër</a:t>
            </a:r>
            <a:r>
              <a:rPr b="0" lang="az-Cyrl-A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ҫ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ë mirë termikë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5" descr="C:\Users\Sarah\Dropbox\work\CIE Science Teachers CD\05. Artwork\Stage 8\Sourced\camb_tcd_l8_ch5_PPT1_1.jpg"/>
          <p:cNvPicPr/>
          <p:nvPr/>
        </p:nvPicPr>
        <p:blipFill>
          <a:blip r:embed="rId1"/>
          <a:stretch/>
        </p:blipFill>
        <p:spPr>
          <a:xfrm>
            <a:off x="2266920" y="1582560"/>
            <a:ext cx="4608720" cy="30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3"/>
          <p:cNvSpPr/>
          <p:nvPr/>
        </p:nvSpPr>
        <p:spPr>
          <a:xfrm>
            <a:off x="900000" y="2708280"/>
            <a:ext cx="8096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671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oni disa eksperimente duke përdorur një film termokol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671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jeni materiale që janë përçues termikë dhe izo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671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ikoni modelin e përcjellshmërisë së nxehtësisë nga objektet e nxeh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671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 ndryshon përcjellshmëria e nxehtësisë ndërsa objektet ftoh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971640" y="1052640"/>
            <a:ext cx="697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hgim i 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ërçueshmërisë term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3"/>
          <p:cNvSpPr/>
          <p:nvPr/>
        </p:nvSpPr>
        <p:spPr>
          <a:xfrm>
            <a:off x="539640" y="4581360"/>
            <a:ext cx="784872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ërçuesit ndihen të ftohtë – energjia termike nga gishtat tuaj rrjedh lehtësisht përmes ty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und të thoni se, cilat nga këto objekte janë përçues dhe cilat j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971640" y="822240"/>
            <a:ext cx="6324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nxehtë apo e ftoht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2" descr="C:\Users\Sarah\Dropbox\work\CIE Science Teachers CD\05. Artwork\Stage 9\Sourced\camb_tcd_l9_phy_ch03_PPT1_3.jpg"/>
          <p:cNvPicPr/>
          <p:nvPr/>
        </p:nvPicPr>
        <p:blipFill>
          <a:blip r:embed="rId1"/>
          <a:stretch/>
        </p:blipFill>
        <p:spPr>
          <a:xfrm>
            <a:off x="2416320" y="1484280"/>
            <a:ext cx="43164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3"/>
          <p:cNvSpPr/>
          <p:nvPr/>
        </p:nvSpPr>
        <p:spPr>
          <a:xfrm>
            <a:off x="539640" y="2060640"/>
            <a:ext cx="3571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Nëse e mbështjell kanaçen me batanijen e ngrohtë, do të jetë mjaft e ngrohtë për ta pirë!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mund të shpjegoni pse Ani e ka gab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1409760" y="6858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jë keqkupt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2" descr="C:\Users\Sarah\Dropbox\work\CIE Science Teachers CD\05. Artwork\Stage 9\Sourced\camb_tcd_l9_phy_ch03_PPT1_4.jpg"/>
          <p:cNvPicPr/>
          <p:nvPr/>
        </p:nvPicPr>
        <p:blipFill>
          <a:blip r:embed="rId1"/>
          <a:stretch/>
        </p:blipFill>
        <p:spPr>
          <a:xfrm>
            <a:off x="4500720" y="1844640"/>
            <a:ext cx="4032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3"/>
          <p:cNvSpPr/>
          <p:nvPr/>
        </p:nvSpPr>
        <p:spPr>
          <a:xfrm>
            <a:off x="950760" y="2100240"/>
            <a:ext cx="693432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kruani një pyetje në lidhje me përcjellshmërinë ose jopërcjellshmërinë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kruani përgjigjen në një fletë tjetë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ërdorni pyetjet dhe përgjigjet tuaja për një aktivitet të klasës me ‘listën e pyetjeve'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1187280" y="1125360"/>
            <a:ext cx="654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kli i pyetje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5:07:40Z</dcterms:created>
  <dc:creator/>
  <dc:description/>
  <dc:language>en-US</dc:language>
  <cp:lastModifiedBy/>
  <dcterms:modified xsi:type="dcterms:W3CDTF">2024-08-08T12:37:00Z</dcterms:modified>
  <cp:revision>1</cp:revision>
  <dc:subject/>
  <dc:title/>
</cp:coreProperties>
</file>