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3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0DD9-D461-4FE2-824E-F42DF3FCF2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408-4654-4C1D-B6A2-D72E1D715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89BF-A479-45E6-B935-3D15497EB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61FD-F619-4205-934F-F42637C03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BE35-CB55-43B6-ABD2-861B1B3072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B25-B9DC-458E-B356-48DB6521C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C10-8A1A-474E-B6C7-34A82076FD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947C8-FA0E-4B08-91DB-E606CE9D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78DF2-51B8-41AD-9B36-E192A521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94F84-15CE-4CD2-B484-E25CA1E5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DD3A-3D91-45DA-AB6F-54B0626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836A-33AD-4471-AB5C-248BBB4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028C-B4B1-4790-BAAD-74DFB08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B672-702C-4DA9-A7AA-03E37553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1DF9-D612-4057-A9BD-3910C761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5922-D390-461F-81E7-8FAB4586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41505-F321-40F6-BCAB-D3CBA5B8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5818C-CA78-49FD-999F-9F5BFAEB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F7C3B-5192-4CA3-B87D-5B97E2E1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59388-5BEA-47E1-9E9F-29B39087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5CD0-07F6-4160-9346-F4DF1CE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2B6F0-D764-4BB1-9EB6-E79B872A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068A-D930-496A-9E40-9E7E8F7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BCBE6-AE7E-4AE5-925F-33A379E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6AC2-747C-46C2-8117-53F80E9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010A6-D711-4C45-BE9F-770B452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A2123-94CA-4DBC-B90C-85CCE06B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1E03-9EAC-40B9-AAB3-CFCE0C3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C5841-D4EE-4E90-891F-6D46CC4B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A5E86-0E4A-4F58-B9E3-668FA9AE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A8FE-4692-496A-9117-7CA87F1E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D105-03D2-44F7-BD55-7411A97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3B638-8B86-4FF4-801E-8EC3E5A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A42D-723B-4772-BEA6-9BB04F5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35182-A5BD-4239-B8F7-EFB5B02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487C9-25BF-413D-B2AD-7D25299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705A9-470F-4670-93BF-CB84668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298-6A31-4786-9446-49ACF8A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8EDE-06B5-4742-9EFF-5CA1006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E7FA3-6AD1-4D82-9A5A-0D9908A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FDA38-6A6D-41A0-88DC-6E08BAF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AC46-0848-4848-8577-FCE641F0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2D52-5F08-4441-B763-11294713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CEB83-129A-4C73-ABBC-D29AED7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34D95-C9FE-4062-A0CD-9E66ABA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7C48A-D8A8-4378-8629-67BEFCB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78EF5-CC2C-4896-83A5-07C70CE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B2C4-5717-42A6-BFC5-E3D696E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0CA-725E-4496-AEE6-76DEA9D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A6B5D-12ED-49FA-8C23-7495BE9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8C521-FC0C-414E-A75C-5E965BA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323C9-9CED-4CC4-9370-18308AD3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621C8-8775-4681-9577-B5D5B289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78DB-DF8E-43AB-98C0-0D1E2CC9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910-2F86-484E-94B4-2EBA99C4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E12-B96B-48F0-8368-298B94BF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AC5-637F-4815-A14F-2705714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0E1-970F-4766-B098-045EBC4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A0E-4558-4F44-A3E9-D145CE80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727-C928-49E4-AF88-D0BCD24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043-C28A-4FE2-BD4D-99AD874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4BE-281E-4761-984B-33ACAF3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7AE-D002-41C9-9C9F-8822B60A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E60-5DB8-4BD3-A97D-57BDEF74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7F7B-6221-4954-B5A2-9B6D74F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A6C9-9D56-4FC7-907E-77120F5B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958-E607-464C-B94F-F930543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156-0BA7-4F39-9B14-C5E6CD7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DAF-53A2-4079-AD1A-44E6CB5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D63-414C-4682-B2E9-3AEAD19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A1C-4A64-4141-917A-AF1CBE0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7AC-47D6-485E-83F9-58428BC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FB6-EF77-4B6B-BCBB-3D4FF94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FEF-7F4E-4C6A-BBA8-D1237847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B10-B55B-470E-AEE4-4666EDF4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A52-3A48-4BDE-9740-3E2048A7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3DD6-EEED-41EF-973D-3C4ADF37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B863-5D8E-4BE8-A2EB-2F662E8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2FB9-2FA6-427A-88A1-9A7C759E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4ABD-AD5F-43C0-B155-6CB848D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DA70-85D3-4031-B355-23884C02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4EF5-D0D0-4FD2-90FC-5767EFB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91BA-836E-426F-AE2C-19D55C7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8418-B647-467E-B45C-58C8B5E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F355-8340-4B99-B49B-3E4D1AC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4E82-215D-469C-A312-B1B348C7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0DB8-152C-4488-B780-9BFEF813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3912-FA37-4066-AB44-A2D0BC4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FC7D-15B2-4FBD-88C0-B6F5D4FE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6E24-0247-47DC-A15B-9EAFD26C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60AF-F931-457A-8FAC-6D1B8456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2707-A77B-434A-A71F-A701673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49F2-D242-422C-9F84-FB88B05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E6C2-4C44-4DF4-9A23-83D1D66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50D2-A349-446D-B511-092CBE4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DA37-FA1E-48DE-BCF1-470E785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DB6A-093E-4998-990F-BAEB086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0733-B539-45B0-B297-4431B6A9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FA38-0EAF-458D-A093-B89D8EDA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498B-B00C-4C23-AAC5-E3AABEBE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280C-FDF4-4EBF-8DFB-439D5225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D62B-BC87-4509-8DFE-B58F3279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E801-BA31-40FE-9E44-2D39894E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E8C9-8E6D-4A7B-B571-24A6C21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5A7D-FCC6-4B8B-8F14-4B714603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DA4D-AC68-4558-9CEF-2AC5EE3D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1A04-C55C-411B-9405-56D8DEB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2EF0-2A03-4A62-988B-68E95E3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4F47-72E8-4748-BD07-6532568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9905-9AE6-48A5-BCC7-F5E4F81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8581-2CCA-4B81-A08F-ED603840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E4E9-2A5B-464A-A5A4-2CC1B195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9EA7-D182-4D7F-B006-52545357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3BB98-A11C-4CD1-A9D8-57ACD7C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E4A4-596F-481F-8B30-3293484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9916-84A1-455F-AB3E-DFE29AF2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BBEA-7B93-4B43-865C-940AFB9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0AF3-353A-4CC0-B3E0-17726AB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FDA8-5F3E-4887-AA1B-E60EF3A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2F21-029C-49BE-B7D0-6AECA11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C7C5-93DE-4DFA-9AA5-1081C67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0C6A-5B4A-48ED-A454-F02E73A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755C-443D-48C9-9119-C380F3A2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691A-9E6A-49EB-8659-B98184A5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0B0D-8993-4D86-82BA-8FF2C008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74F1-A3A6-4BC6-85AD-C25E775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265FD-3F8B-4560-B7EF-E36645E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A7F17-7284-4B9F-9AD7-566A5F39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8EA6B-600A-4CEA-9067-E94C3AD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754D-854C-4D70-924C-29BE4F0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78DA-D11E-4EFD-AF9A-0A7FCDD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C818-F0E3-4B11-B2E3-80DA67B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BE9D-9FB6-49E9-9B75-C75BCD4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6C02-760C-4024-B3FF-062A435D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D2CD-87E6-42A0-BFF3-369110E9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2FFB0-CF22-477D-8FC3-4E9F0B3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1182-3768-4881-BB09-38BF35AB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12EE-C3AB-4844-97C2-AACCC8B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25FA-B57B-49EE-8AD3-17F66C06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4EE7-5129-44C8-B7F9-05FCDF8D53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C3F-FBE8-4F4B-A751-33F11FDE58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DA1D-7170-4B25-825C-96E1E9532F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B21-8112-4071-BC1E-6B72B8D040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44F-8AEF-4B6B-81FB-ECC004F576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F5DC-E1FA-4292-ACF4-5A67E2C253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DACE-9516-4EA1-96AB-7784F6FB6D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9C1-A46A-4EB7-BE3D-487DD205E4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AA0F-DA1B-427C-9254-EC261DA7BF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4773-598C-407D-AA74-E05670B0DE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56D-FE39-4C46-81FB-3EC8CE4136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C:\Users\Sarah\Dropbox\work\CIE Science Teachers CD\05. Artwork\Stage 9\Sourced\camb_tcd_l9_phy_ch01_PPT1_1.jpg"/>
          <p:cNvPicPr/>
          <p:nvPr/>
        </p:nvPicPr>
        <p:blipFill>
          <a:blip r:embed="rId1"/>
          <a:stretch/>
        </p:blipFill>
        <p:spPr>
          <a:xfrm>
            <a:off x="495360" y="2349360"/>
            <a:ext cx="4387680" cy="29196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"/>
          <p:cNvSpPr/>
          <p:nvPr/>
        </p:nvSpPr>
        <p:spPr>
          <a:xfrm>
            <a:off x="2050920" y="692280"/>
            <a:ext cx="56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8 Fuqia e bateris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937040" y="2349360"/>
            <a:ext cx="38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zato atë që mbani mend rreth qarkut brenda këtij ndri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e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44600" y="158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 mbani mend rreth qarqeve elek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937040" y="4199040"/>
            <a:ext cx="388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janë të gjithë qarqet e tjera elektrike të njëj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4716000" y="7128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.8 Prodhimi i energjisë elektrike me 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511280" y="7048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ërdorimi i bater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539640" y="2133720"/>
            <a:ext cx="77360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teritë përmbajnë një rezervë të energjisë kim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jë reaksion kimik e shndërron energjinë kimike në energji elektrike. Llamba  shndërron energjinë elektrike në energji dri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444600" y="1657440"/>
            <a:ext cx="75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ikoni me kujdes brenda p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3960" y="704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enda n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p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484200" y="571824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 është e rrezikshme të hapësh vetë bateritë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4500720" y="227664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teritë e para kishin brenda tyre acide të lëngshme. Si ndryshojnë bateritë moder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529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_x0017_09I.02.03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2916360" y="1406520"/>
            <a:ext cx="3039840" cy="31687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2"/>
          <p:cNvSpPr/>
          <p:nvPr/>
        </p:nvSpPr>
        <p:spPr>
          <a:xfrm>
            <a:off x="571680" y="700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ja e tensionit të bateris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468360" y="486900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 më i madh të jetë voltazhi, aq më i madh është 'shtytja' që bateria i jep rrymës që të rrjedh rreth qark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C:\Users\Sarah\Dropbox\work\CIE Science Teachers CD\05. Artwork\Stage 9\Sourced\camb_tcd_l9_phy_ch01_PPT1_2.jpg"/>
          <p:cNvPicPr/>
          <p:nvPr/>
        </p:nvPicPr>
        <p:blipFill>
          <a:blip r:embed="rId1"/>
          <a:stretch/>
        </p:blipFill>
        <p:spPr>
          <a:xfrm>
            <a:off x="179280" y="2133720"/>
            <a:ext cx="5359680" cy="3606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"/>
          <p:cNvSpPr/>
          <p:nvPr/>
        </p:nvSpPr>
        <p:spPr>
          <a:xfrm>
            <a:off x="495360" y="700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udimi i pilave me fru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5486400" y="205740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buloni se cilët faktorë ndryshojnë tensionin në një pilë me fruta ose pe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2133720" y="7048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qia e frut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68360" y="206064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Çfarë zbuluat nga hetimi juaj për pilat me f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600" y="37227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ëni një përmbledhje në klasë për të treguar atë që keni mësu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05:55Z</dcterms:created>
  <dc:creator/>
  <dc:description/>
  <dc:language>en-US</dc:language>
  <cp:lastModifiedBy/>
  <dcterms:modified xsi:type="dcterms:W3CDTF">2024-08-07T11:06:45Z</dcterms:modified>
  <cp:revision>1</cp:revision>
  <dc:subject/>
  <dc:title/>
</cp:coreProperties>
</file>