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25760"/>
            <a:ext cx="502920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7217B-C4F5-4F6F-8DC8-43218C2E063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925F0-0405-4CE5-8976-AC7ACD8C0D6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25760"/>
            <a:ext cx="50292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4E35F-E277-4C4D-AC11-B849EB494AC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3EA61-F45D-4971-8656-903087B09AE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EC0FF-9DAA-41B8-BFC9-1F0024210CB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939E6-D5C0-42E3-9E99-69BAF6483E8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B6395-0551-41F3-BAC0-CCD9FF2FF6F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9AB6-5CD0-4D90-8571-15C8A5114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208080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1084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980C-8175-41DA-B2E4-04CFCA783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8080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08080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108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108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DB5E-6CA6-4890-BB7A-7BD8C877F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208080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208080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208080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108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108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108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4B59-D6FD-4DB0-99D9-20A8955C5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20808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6315-2C4E-48DC-83C7-8502115A9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0808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0684-35D6-49CD-9232-C5330DD49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08080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208080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AE15-DBE6-47E6-85E5-6CF332D87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79B4-5305-4069-ABB4-599675D98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C14B-BAA6-4AA2-A1C0-A5F19AA92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08080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08080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108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343D-3073-4A02-B914-5E91E439A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08080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208080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108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FBDD-EAFC-440A-BBD6-D7731AB63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208080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208080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1084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36D0-F66D-44C7-B723-BFACE5E82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0808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47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5440" y="624852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B3F2E-9F5F-4551-BA14-E5D330DF675F}" type="slidenum">
              <a:rPr b="0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Date Placeholder 3"/>
          <p:cNvSpPr/>
          <p:nvPr/>
        </p:nvSpPr>
        <p:spPr>
          <a:xfrm>
            <a:off x="611280" y="6348240"/>
            <a:ext cx="8532720" cy="1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Udhëzues për tekstin mësimor “Fizika 9” – sipas origjinalit Science Stage 9 Physics for Cambridge Secondary 1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© Oxford University Press 20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© në gjuhën shqipe Shtëpia Botuese Ideart, 202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" descr=""/>
          <p:cNvPicPr/>
          <p:nvPr/>
        </p:nvPicPr>
        <p:blipFill>
          <a:blip r:embed="rId2"/>
          <a:stretch/>
        </p:blipFill>
        <p:spPr>
          <a:xfrm>
            <a:off x="685800" y="101520"/>
            <a:ext cx="1803240" cy="73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826920" y="907920"/>
            <a:ext cx="759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rezatimi dhe konveksion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1692360" y="5157720"/>
            <a:ext cx="5832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 u ngritën këto balona në ajë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 qëndrojnë lart a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066680" y="19051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Box 1"/>
          <p:cNvSpPr/>
          <p:nvPr/>
        </p:nvSpPr>
        <p:spPr>
          <a:xfrm>
            <a:off x="6300720" y="1062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3.3 Konveksio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2" descr="C:\Users\Sarah\Dropbox\work\CIE Science Teachers CD\05. Artwork\Stage 9\Sourced\camb_tcd_l9_phy_ch03_PPT2_1.jpg"/>
          <p:cNvPicPr/>
          <p:nvPr/>
        </p:nvPicPr>
        <p:blipFill>
          <a:blip r:embed="rId1"/>
          <a:stretch/>
        </p:blipFill>
        <p:spPr>
          <a:xfrm>
            <a:off x="1679400" y="1773360"/>
            <a:ext cx="558180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1246320" y="679320"/>
            <a:ext cx="671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ërhapja e energjisë termi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3276720" y="1413000"/>
            <a:ext cx="3733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y djalë mund ta ndjejë me të vërtetë nxehtësinë nga Diell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539640" y="4352760"/>
            <a:ext cx="3595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y gjarpër është shumë i ndjeshëm dhe mund ta ndjejë nxehtësinë që i vjen nga njeri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2" descr="C:\Users\Sarah\Dropbox\work\CIE Science Teachers CD\05. Artwork\Stage 9\Sourced\camb_tcd_l9_phy_ch03_PPT2_2.jpg"/>
          <p:cNvPicPr/>
          <p:nvPr/>
        </p:nvPicPr>
        <p:blipFill>
          <a:blip r:embed="rId1"/>
          <a:srcRect l="0" t="10987" r="0" b="13966"/>
          <a:stretch/>
        </p:blipFill>
        <p:spPr>
          <a:xfrm>
            <a:off x="898560" y="1413000"/>
            <a:ext cx="2160720" cy="2438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" descr=""/>
          <p:cNvPicPr/>
          <p:nvPr/>
        </p:nvPicPr>
        <p:blipFill>
          <a:blip r:embed="rId2"/>
          <a:stretch/>
        </p:blipFill>
        <p:spPr>
          <a:xfrm>
            <a:off x="4356000" y="3284640"/>
            <a:ext cx="423864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5"/>
          <p:cNvSpPr/>
          <p:nvPr/>
        </p:nvSpPr>
        <p:spPr>
          <a:xfrm>
            <a:off x="698400" y="4738680"/>
            <a:ext cx="776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jri i nxehtë ngrihet lart. Energjia e Diellit shkakton një rrymë konveksioni. Kjo shqiponjë po përdor një rrymë konveksioni për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fluturu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1527120" y="67932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Nxehtësia përhapet l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2" descr="C:\Users\Sarah\Dropbox\work\CIE Science Teachers CD\05. Artwork\Stage 9\Sourced\camb_tcd_l9_phy_ch03_PPT2_4.jpg"/>
          <p:cNvPicPr/>
          <p:nvPr/>
        </p:nvPicPr>
        <p:blipFill>
          <a:blip r:embed="rId1"/>
          <a:stretch/>
        </p:blipFill>
        <p:spPr>
          <a:xfrm>
            <a:off x="2340000" y="1555920"/>
            <a:ext cx="44370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>
            <a:off x="723960" y="2397240"/>
            <a:ext cx="3919320" cy="28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voni ta bëni këtë rrymë konveksioni në një lë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 mund t’i përdorim rrymat e konveksion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503280" y="907920"/>
            <a:ext cx="85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ëzhgimi dhe përdorimi i rrymave të konveksion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8" descr="_x0014_8I5.3_convection.jpg                                           000259D1_x000e_Nelson Thornes                 B7031174:"/>
          <p:cNvPicPr/>
          <p:nvPr/>
        </p:nvPicPr>
        <p:blipFill>
          <a:blip r:embed="rId1"/>
          <a:stretch/>
        </p:blipFill>
        <p:spPr>
          <a:xfrm>
            <a:off x="4788000" y="1557360"/>
            <a:ext cx="2849400" cy="42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539640" y="4508640"/>
            <a:ext cx="837252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57120" indent="-357120">
              <a:lnSpc>
                <a:spcPct val="100000"/>
              </a:lnSpc>
              <a:spcAft>
                <a:spcPts val="601"/>
              </a:spcAft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Ajri zgjerohet kur nxehe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bëhet më pak i dendu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7120" indent="-3571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jri më pak i dendur ngjitet l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7120" indent="-3571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jri më i ftohtë lëviz poshtë për ta zëvendësuar atë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1527120" y="67932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hpjegimi i konveksion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1908000" y="1306440"/>
            <a:ext cx="5175360" cy="31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3"/>
          <p:cNvSpPr/>
          <p:nvPr/>
        </p:nvSpPr>
        <p:spPr>
          <a:xfrm>
            <a:off x="709560" y="1565280"/>
            <a:ext cx="775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ikoni këto fjalë kyçe. A mund të shkruani kuptimin e secilit prej ty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1522440" y="68256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jalë kyç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3357720" y="279252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xeh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684360" y="2792520"/>
            <a:ext cx="233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emperatu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4842000" y="3583080"/>
            <a:ext cx="319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cues term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2"/>
          <p:cNvSpPr/>
          <p:nvPr/>
        </p:nvSpPr>
        <p:spPr>
          <a:xfrm>
            <a:off x="1254240" y="3583080"/>
            <a:ext cx="29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zolator term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3"/>
          <p:cNvSpPr/>
          <p:nvPr/>
        </p:nvSpPr>
        <p:spPr>
          <a:xfrm>
            <a:off x="1571760" y="5316480"/>
            <a:ext cx="206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zgjeroh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4"/>
          <p:cNvSpPr/>
          <p:nvPr/>
        </p:nvSpPr>
        <p:spPr>
          <a:xfrm>
            <a:off x="3616200" y="4379760"/>
            <a:ext cx="140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kurr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5"/>
          <p:cNvSpPr/>
          <p:nvPr/>
        </p:nvSpPr>
        <p:spPr>
          <a:xfrm>
            <a:off x="4781520" y="5316480"/>
            <a:ext cx="27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konvek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5843520" y="4379760"/>
            <a:ext cx="18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rezat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7"/>
          <p:cNvSpPr/>
          <p:nvPr/>
        </p:nvSpPr>
        <p:spPr>
          <a:xfrm>
            <a:off x="5559480" y="2792520"/>
            <a:ext cx="330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ryma konveks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8"/>
          <p:cNvSpPr/>
          <p:nvPr/>
        </p:nvSpPr>
        <p:spPr>
          <a:xfrm>
            <a:off x="1216080" y="4379760"/>
            <a:ext cx="16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1T15:07:40Z</dcterms:created>
  <dc:creator/>
  <dc:description/>
  <dc:language>en-US</dc:language>
  <cp:lastModifiedBy/>
  <dcterms:modified xsi:type="dcterms:W3CDTF">2024-08-08T12:39:45Z</dcterms:modified>
  <cp:revision>1</cp:revision>
  <dc:subject/>
  <dc:title/>
</cp:coreProperties>
</file>