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17C2-1A16-4CE3-9F56-C81951DDF3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BDB5-21DA-4E6F-8D38-9538A851BF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3D5E-BA00-42B7-AE40-C4875627B5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7F98-0D2B-4E4F-A6E9-546EDEBB69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0855-4456-4D35-9A0B-BA45249EF5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5BC4-2053-4A28-89A6-87D6E94711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3BDD-575D-4151-83DA-6E7874ABF8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3EFD-FB97-41FD-820A-7AA99DC10D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25F-0D96-4545-8EC4-2FBED632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900-B79C-4C9A-B1F8-829253CF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48C-02C1-4813-9859-19DC0ABF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5FD-E7F8-4013-823B-722E9933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92D-40D5-49B9-AE49-6E4EEEE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2F4-6C52-4FED-B3E2-045A5881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0AE-CACC-4ECD-9B4D-05A7BDFC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1B5-A688-408A-A6C8-53576EAE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1D3-D922-4F4A-B382-7DDF2D79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FF6-3C85-4B14-8E21-16412448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5FE-EC2E-4F9D-BC55-CE5538F7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1AD-EE49-4843-A60D-7F817F8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FEA1-859E-4B47-BB0A-71144F137C1C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a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584360" cy="66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409760" y="6922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066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57200" y="14731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ërdorni shkronjat e fjalës KOLOVAJZ për të filluar shtatë fjali për të treguar atë që dini për levat dhe baraspeshë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859720" y="10620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2.4 Momenti dhe baraspes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3880" y="7048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i i një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" y="174780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ekti rrotullues i një force quhet momenti i saj. Momenti i një force llogarit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i = forca × distanca nga boshti i rrotul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457200" y="428796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i i një force bëhet më i madh nëse forca është më e madhe, ose nëse forca është më larg nga boshti i rrotul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431640" y="4505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ëse një forcë prej 20 N vepron në një largësi prej 3 m nga boshti i rrotullimit, momenti i saj është:  momenti = 20 N × 3 m = 60 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28800" y="695160"/>
            <a:ext cx="62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logaritja e moment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332000" y="1987560"/>
            <a:ext cx="6048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71680" y="7048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ë drejtim të akrepave të orës, në drejtim të kundë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ar, antio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-25560" y="5573880"/>
            <a:ext cx="81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pjegoni pse kolovajza është e baraspeshu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975120" y="1611360"/>
            <a:ext cx="5118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a 30 N përpiqet të kthejë kolovajzën në drejtim të akrepave të or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i = 30N × 2m = 6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680" y="3556080"/>
            <a:ext cx="69343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ca 20 N përpiqet ta kthejë kolovajzën në drejtim të kundërt të akrepave të or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menti = 20N × 3m = 60 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" descr="_x0017_09L.06.02_AW293.fh8.jpg                                        0001C2AD_x000c_Studio Files                   BCCA38C6:"/>
          <p:cNvPicPr/>
          <p:nvPr/>
        </p:nvPicPr>
        <p:blipFill>
          <a:blip r:embed="rId1"/>
          <a:stretch/>
        </p:blipFill>
        <p:spPr>
          <a:xfrm>
            <a:off x="406440" y="1809720"/>
            <a:ext cx="38862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95360" y="704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cat e barazpeshu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82760" y="3274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imi i momenteve thotë se leva është në baraspeshë në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82760" y="183996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jë levë është e balancuar nëse efektet rrotulluese të forcave mbi të anulo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826920" y="4572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menti orar = momenti kundër 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704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estimi i parimit të moment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57200" y="49957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e ndryshoni njërën nga peshat dhe gjeni peshën tjetër që bën ekuilibrin e kolovajz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74040" y="1636560"/>
            <a:ext cx="51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oni parimin e momente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851360" y="2298600"/>
            <a:ext cx="391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ëvizni  njërën peshë me hapa të barabartë dhe gjeni ku ta vendosni peshën tjetër për të bërë ekuilibrin e kolovajz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4" descr="_x0017_09L.06.03_AW293.fh8.jpg                                        0001C2AD_x000c_Studio Files                   BCCA38C6:"/>
          <p:cNvPicPr/>
          <p:nvPr/>
        </p:nvPicPr>
        <p:blipFill>
          <a:blip r:embed="rId1"/>
          <a:stretch/>
        </p:blipFill>
        <p:spPr>
          <a:xfrm>
            <a:off x="558720" y="2665440"/>
            <a:ext cx="39625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_x001a_09L.06.02_AW293(2).fh8.jpg                                     0001C2AD_x000c_Studio Files                   BCCA38C6:"/>
          <p:cNvPicPr/>
          <p:nvPr/>
        </p:nvPicPr>
        <p:blipFill>
          <a:blip r:embed="rId1"/>
          <a:stretch/>
        </p:blipFill>
        <p:spPr>
          <a:xfrm>
            <a:off x="1674720" y="1268280"/>
            <a:ext cx="5703840" cy="1778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379440" y="704880"/>
            <a:ext cx="63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e të baraspeshu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24000" y="3386160"/>
            <a:ext cx="8534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xënësi  i parë: përshkruani ose vizatoni një forcë që vepron në njërën anë të kolovajz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xënësi  i dytë: vendosni forcën që do të baraspeshojë kolovajzën. Sa e ka madhësinë? Në cilën anë vazhdon? Sa larg nga pika mbështetë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5:07:40Z</dcterms:created>
  <dc:creator/>
  <dc:description/>
  <dc:language>en-US</dc:language>
  <cp:lastModifiedBy/>
  <dcterms:modified xsi:type="dcterms:W3CDTF">2024-08-05T07:55:13Z</dcterms:modified>
  <cp:revision>1</cp:revision>
  <dc:subject/>
  <dc:title/>
</cp:coreProperties>
</file>