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35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36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37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B473-5E19-414E-AD94-4EA015AE0E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97D8-F43F-4EDE-86B4-24886FE765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3C9A-D41D-43AE-ADE1-F291699E48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103A-2D53-48D5-9FD9-867B77ED2A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E005-840A-43F4-9EFA-89AE27677A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5398-5CEE-4D7C-AAA3-E9FA26026D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EE58-8160-4400-847A-8041FC3A78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DC62-FFF8-4CB4-B9BE-74D3238CA5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65CA24-A5C6-4CFF-9354-3CC036B1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D5AF0E-32FF-4126-B181-4853C81C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5B8835-DFB6-437C-9BD0-118138F6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090BC3-9DBA-46C2-9894-BE3C479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1AE6FA-8CCA-48F1-96E4-EE2B360A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E1219E-F6D1-4DA7-92CD-A70CE640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4FD278-38F4-4BD0-85F5-6F9C5673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484C66-0137-4399-BDD0-1BBFC511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374B14-8990-4356-8472-3AD6A073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67985-461B-40F7-893E-D0AD823E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EC04A-2EAD-4CA2-A16D-46247495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490FD-FCF6-4C4D-8D63-52DF9C75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7A8A1-229C-4B7E-A7F7-EBBE4299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96A54-6E3E-4BB8-BD48-57B71B1E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5AEE2-3EEA-4007-B9D3-52A9851D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BE886-5D00-4CCD-80E0-5C4A7190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8BF79-7C93-4056-B000-DC232C44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B4CFE-74CF-4F1D-B93D-9C40F4F9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4266D-32B7-4F39-A8B5-3DB6EAC7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3ECC5-BC03-4B13-95D7-25751614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32928-486C-4C8F-86FF-48D7EDD4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BFE7C-9AF6-4A66-9DE2-892DEE68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94E40-C106-4671-AAEC-BFB76A6B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7DDFC-25C6-4844-A837-0C8EB657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2AE50-6284-4830-B209-118A0C92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13A53-6D58-45DB-BFAC-FE48E747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55567-DFC3-42A1-927D-1B1DCCFC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6B67A-C258-4936-B57D-2DAF954D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BC891-F1DE-4DB8-A213-A2615B58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8FD4B-8E81-4F5E-A2F2-2B835278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D18-B412-4C38-8C68-E1A48504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3DDD1-CBCC-402F-9FC2-7BF53CE8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F9271-FE45-431A-93C8-C8CF08B2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73DF0-3E78-40FD-BCD9-B13C4BE3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5986C9-D27F-488F-BC08-95FD9CFD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AC8BE0-B8A8-4EB9-A256-7ED42540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4A8A10-232A-41F4-B8B9-C0158AFB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B45486-0978-491C-A672-F5560BB6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07646A-CF01-4FCC-A283-ABF25745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CA8857-442C-4984-8422-496C9B15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834F53-6F18-402B-9843-E139B16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2B9-FDD1-4E91-AA4D-0E2D0D87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621A55-16E2-4422-A632-74F0FA71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4DE22D-FF56-4309-A66F-AC8C05DB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64379E-8B58-4339-995C-F37EA753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768211-B55A-4DD8-AF2E-47547867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4FDCEF-BAFB-4BAC-838E-E89D8190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2F9ED-FF81-47E0-A30F-EBA37129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05BD2-0E30-4466-9942-A12529D2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57114-A22E-47BB-840B-EBF79AA2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D7B36-FD79-46C6-A6D1-7AF7FCE0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E51A0-6E21-421C-9232-7B9CF75D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94E-583D-4B7A-9802-2F92BD45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2C809-C8BA-448C-8BCF-AE8F5094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F5435-EA80-4F85-934F-5342DF50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40FC1-CC64-455B-9366-773A03A2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0807F-F632-4CA0-9CC0-E01398E0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52C53-BA29-4D5E-A86A-64EDE8D1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1C9D5-14DC-443C-9991-8C856AA8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29F74-DCCA-4818-B7AA-C23DD7E9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A66-512B-4333-9A70-716B533D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D41-444B-4E1B-9F2E-20886AC8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69F-55AF-48F0-A83A-B583F003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EBC-DD3D-4A87-9ACC-E1AD3A31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574-8C3A-41EF-96CF-A2892DE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0F4-6089-4141-9626-E14E374B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243-E475-4A7A-9FD7-86FEDB52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11D-BAF8-4113-8245-243F0546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AAD-F1C7-42D1-8A26-D4EB3A03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2765-B810-4C33-8CE7-69063E39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B0D6-A5D6-4E30-A165-37776E68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BA9D-4592-46A0-A60F-6C1C18E1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E8BB-DA0E-4202-8668-F03A8724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554E-04FF-4FB2-920A-8942A894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BA84-6C03-48D2-BD3E-60479E5B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76AD-A487-4C8D-88F7-7F54A867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4D60-4A4A-4879-8794-C78188DA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9A12-3830-411A-8A52-382E186F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716A-6167-4AE6-8EAA-2D8FD925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19D6-89CF-4809-A91D-6B2B9AFD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4534-3C9B-4BDC-952D-451BFBC3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28878F-EB52-4822-A909-9F2CB55A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16D56-7C8C-41C3-B72E-CF36622B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C37EB-728D-42F5-AAC7-B9B3CA67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8DB47-ECE2-4D3A-A3B6-A5AAD686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02C0DD-AAFB-470A-835F-0ED8672E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FB9D3-4B32-4449-A9D1-35E8F61A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EED24B-FEC4-40BA-BBE9-7C46325E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CEC8C1-9F97-4D4F-AF6D-ACF52C17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28486-8159-412F-BC1E-CFC965B0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AFB9D-6194-4AED-AC4C-F393801A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00D17-BF9D-4B84-8CC4-9035CEF5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15DE3-91A7-4A25-8984-FAE49447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FBE4D3-FC78-4D5D-AE1B-C58DD940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0C3854-BCCE-4C23-B712-1ECE9AB5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A3A875-7ADF-460E-BCF5-5A21C342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43CF7E-877D-41CB-B6E0-DAAB3D6F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CCECD0-538F-4E83-AC41-A0E9075C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8A8F42-B313-4A77-B3FF-B70CE244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476128-334B-4434-AD2F-628306C4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6D895F-E7D1-4B6A-A041-330FD58F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689132-43E4-4EBF-8559-955C9082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B8A188-975F-4937-A1BB-F863FD33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A704C4-10D3-4764-B949-B5A3E0ED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CA7005-888D-44EE-9723-DE6F752A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40E8F3-C84E-48D4-B676-76C27807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E4C149-1D09-4077-8743-1F1B1F46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4D3D47-AC84-4175-B5B5-CCCF7AE0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DC94A1-8B06-46FC-BA9A-2ACC3217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7003D6-F4F5-4A67-BB83-5B9E7C44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CD2FAD-0070-484E-B8EB-10E900F4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027B1-E471-46E8-94A2-C5EC6B92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14A719-F2FF-4653-AE12-CA935E7B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16057A-9DC3-44D2-932E-695F6D57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9ECC3-62AC-4C6F-B3EF-E6C95D2B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D99F25-8DDE-4BF7-8D4E-8BE65DC2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E67246-19E7-4841-9C09-B9C1EC5B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A3A904-B3C4-4C0D-A68E-E7202D85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E1F57E-A8A9-4508-9685-A941F997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23A73A-9E58-4BD7-A77E-763F7672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CBD871-E96E-4A87-92DA-26053888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84DCAA-5735-4D98-BF40-691EDC16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CEAD1B-7A27-4559-BC9B-8F225072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EF40C2-AD87-49AC-A9C5-D26AD037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DE2866-9563-486F-B0AE-3C6E5AEB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E7D925-782A-420B-8A75-8A88B360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5C4EF4-0FAC-4BF5-A9EF-CAED7F80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AD23F3-5B1A-4046-AB9D-6129305D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2836FD-EF20-4017-B903-66936F5F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04026B-543E-441B-87BE-0F2F27D3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2B2F70-2025-4219-B502-DD2D377E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9E7E2E-3014-4713-A4B6-7CEEEA28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3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4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F730-C247-4209-B887-A3BA11B8CD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6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7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D81F-E029-4157-8EB8-006EA931257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9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0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035E-80F6-438A-82C5-9AC21D6CE4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2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3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9CBF-8B66-4476-9528-D46FE5A84D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1133-2EA4-4604-AC0B-8245E93D2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CC0C-2D54-4873-8A90-17AC6719128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7"/>
          </p:nvPr>
        </p:nvSpPr>
        <p:spPr>
          <a:xfrm>
            <a:off x="491760" y="5960880"/>
            <a:ext cx="788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8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9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9E68-000F-46A3-A01C-F2EB3E0535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DD81-E0BC-4703-A194-007CDD1DC21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5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D9C9-829D-44BF-BCD7-A14B978FF86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7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8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862D-D1D0-4237-9FDD-4BD7601F7D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0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1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6091-CB48-49F3-9B8F-56C092D334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2195640" y="69228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14 Prodhimi i energjisë elektr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11280" y="5530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ëni një hartë konce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1066680" y="19051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457200" y="1650960"/>
            <a:ext cx="767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 përdorim energji elektrike gjatë gjithë kohës. Por sa dini për të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5638680" y="2882880"/>
            <a:ext cx="318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kruani sa më shumë fjalë ose ide që lidhen me energjinë elektr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1"/>
          <p:cNvSpPr/>
          <p:nvPr/>
        </p:nvSpPr>
        <p:spPr>
          <a:xfrm>
            <a:off x="7035840" y="1062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1.14 Rrjeti elektr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10" descr="C:\Users\Sarah\Dropbox\work\CIE Science Teachers CD\05. Artwork\Stage 9\Sourced\camb_tcd_l9_phy_ch01_PPT2_1.jpg"/>
          <p:cNvPicPr/>
          <p:nvPr/>
        </p:nvPicPr>
        <p:blipFill>
          <a:blip r:embed="rId1"/>
          <a:stretch/>
        </p:blipFill>
        <p:spPr>
          <a:xfrm>
            <a:off x="826920" y="2616120"/>
            <a:ext cx="42213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523880" y="7048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ë biçikletën tua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468360" y="1844640"/>
            <a:ext cx="433080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Çiklistët përdorin një dinamo për të prodhuar energji elektrike për dritat e ty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ni shumica e dritave të biçikletave furnizohen nga bateritw - bateritë zgjasin shumë më gjatë se më par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6" descr="C:\Users\Sarah\Dropbox\work\CIE Science Teachers CD\05. Artwork\Stage 9\Sourced\camb_tcd_l9_phy_ch01_PPT2_2.jpg"/>
          <p:cNvPicPr/>
          <p:nvPr/>
        </p:nvPicPr>
        <p:blipFill>
          <a:blip r:embed="rId1"/>
          <a:stretch/>
        </p:blipFill>
        <p:spPr>
          <a:xfrm>
            <a:off x="5219640" y="1628640"/>
            <a:ext cx="302436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3"/>
          <p:cNvSpPr/>
          <p:nvPr/>
        </p:nvSpPr>
        <p:spPr>
          <a:xfrm>
            <a:off x="3924360" y="1743120"/>
            <a:ext cx="468000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y gjenerator prodhon energji elektrike kur rrotullojmw dorezë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ocentralet kanë gjeneratorë të tillë brenda tyre – por njerëzit nuk i rrotullojnw me dorë!Çfarë burimesh energjie përdorin a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723960" y="704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jeneratorët e energjisë elektr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1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28814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7" descr="_x0017_09I.03.04_AW293.fh8.jpg                                        0001C2AD_x000c_Studio Files                   BCCA38C6:"/>
          <p:cNvPicPr/>
          <p:nvPr/>
        </p:nvPicPr>
        <p:blipFill>
          <a:blip r:embed="rId1"/>
          <a:stretch/>
        </p:blipFill>
        <p:spPr>
          <a:xfrm>
            <a:off x="4859280" y="1844640"/>
            <a:ext cx="3716280" cy="39607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2"/>
          <p:cNvSpPr/>
          <p:nvPr/>
        </p:nvSpPr>
        <p:spPr>
          <a:xfrm>
            <a:off x="2428920" y="70488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ergjia e erë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444600" y="1916280"/>
            <a:ext cx="41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Fryni fletët e ventilatorit dhe shikoni voltmetr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446040" y="3484440"/>
            <a:ext cx="398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 po shndërrohet energjia juaj në energji elektr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468360" y="69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gesa për energjinë elektr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5364000" y="1700280"/>
            <a:ext cx="304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ur paguajmë energjinë elektrike, ne paguajmë karburantin që përdoret për të kthyer energj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 tyre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nergji elektr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7450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495360" y="704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qia e rrymë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4788000" y="204804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iketat e vlerësimit të fuqisë na tregojnë se sa shpejt një pajisje elektrike e sh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ron energjinë elektrike në lloje të tjera energj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611280" y="5143680"/>
            <a:ext cx="80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la do të kushtojë më shumë për të punuar për 1 orë, një llambë 100 W apo dy llamba 60 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7" descr="C:\Users\Sarah\Dropbox\work\CIE Science Teachers CD\05. Artwork\Stage 9\camb_tcd_l9_phy_ch01_PPT2_3.jpg"/>
          <p:cNvPicPr/>
          <p:nvPr/>
        </p:nvPicPr>
        <p:blipFill>
          <a:blip r:embed="rId1"/>
          <a:stretch/>
        </p:blipFill>
        <p:spPr>
          <a:xfrm>
            <a:off x="1173240" y="3645000"/>
            <a:ext cx="3456000" cy="934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C:\Users\Sarah\Dropbox\work\CIE Science Teachers CD\05. Artwork\Stage 9\camb_tcd_l9_phy_ch01_PPT2_4.jpg"/>
          <p:cNvPicPr/>
          <p:nvPr/>
        </p:nvPicPr>
        <p:blipFill>
          <a:blip r:embed="rId2"/>
          <a:stretch/>
        </p:blipFill>
        <p:spPr>
          <a:xfrm>
            <a:off x="1173240" y="1557360"/>
            <a:ext cx="34560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3"/>
          <p:cNvSpPr/>
          <p:nvPr/>
        </p:nvSpPr>
        <p:spPr>
          <a:xfrm>
            <a:off x="2671920" y="814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voni ve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444600" y="1676520"/>
            <a:ext cx="79581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kruani një pyetje në lidhje me bateritë ose energjinë elektr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kruani përgjigjen në një fletë të veçant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44600" y="3429000"/>
            <a:ext cx="795816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ërdorni pyetjet dhe përgjigjet tuaja për një aktivitet të ciklit të pyetjeve në klas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ha për veten. Shihni nëse mund ta plotësoni ciklin e pyetjeve më shpejt në fund të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4:15:12Z</dcterms:created>
  <dc:creator/>
  <dc:description/>
  <dc:language>en-US</dc:language>
  <cp:lastModifiedBy/>
  <dcterms:modified xsi:type="dcterms:W3CDTF">2024-08-07T11:55:02Z</dcterms:modified>
  <cp:revision>1</cp:revision>
  <dc:subject/>
  <dc:title/>
</cp:coreProperties>
</file>